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12530"/>
        <c:axId val="61236457"/>
      </c:barChart>
      <c:catAx>
        <c:axId val="93512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36457"/>
        <c:crosses val="autoZero"/>
        <c:auto val="1"/>
        <c:lblAlgn val="ctr"/>
        <c:lblOffset val="100"/>
        <c:noMultiLvlLbl val="0"/>
      </c:catAx>
      <c:valAx>
        <c:axId val="61236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12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2D0-E126-4F7A-B57E-601FE127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AAE-1E7C-42A6-ABB2-EAF2BB5D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4D6-508C-4916-8608-3B052487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A2F-9527-41D6-A6EA-F9F68A2B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26B-6B30-4313-90FE-50311DCD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57C-461B-45D7-B78D-DA792812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7E3-11DA-428E-B85B-D7DFA0A2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60F-7013-4553-A957-30A841CC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D8B-A3CB-4EA9-B68A-8EDF3F9B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843-8B11-4D7C-894B-84ADFCA3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650-9D30-4AB0-822E-7101CB3E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D06-F4A4-453F-A306-E43792BE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4BE3E-D71D-440D-AF18-323E2D1533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