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05259"/>
        <c:axId val="14988386"/>
      </c:barChart>
      <c:catAx>
        <c:axId val="67705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88386"/>
        <c:crosses val="autoZero"/>
        <c:auto val="1"/>
        <c:lblAlgn val="ctr"/>
        <c:lblOffset val="100"/>
        <c:noMultiLvlLbl val="0"/>
      </c:catAx>
      <c:valAx>
        <c:axId val="14988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05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97A-B1D2-4780-86FA-DE4DFD55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585-1587-4D06-AD1C-53D130E4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C3B-0458-48C7-85E0-AD8D4E1E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4B8-2A2C-4914-862A-ECFDC129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844-40C9-419C-A234-9C956E6F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8D3-4479-4B7B-AE7F-22189DD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0F9-5E16-4479-9692-9779F3B5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9A8-4286-4F18-AED4-98644255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107-4881-4C99-8454-987566D3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0B4-20EA-430B-AB52-31378D5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2CE-FE68-4138-923A-AE2D5CB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E54-08D9-46A9-A333-85613763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5A544-A7CF-40F5-A56E-06ED1B0F5E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