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6413"/>
        <c:axId val="94811720"/>
      </c:barChart>
      <c:catAx>
        <c:axId val="1096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811720"/>
        <c:crosses val="autoZero"/>
        <c:auto val="1"/>
        <c:lblAlgn val="ctr"/>
        <c:lblOffset val="100"/>
        <c:noMultiLvlLbl val="0"/>
      </c:catAx>
      <c:valAx>
        <c:axId val="94811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6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A83-04C4-4D85-9F79-378B1EBE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B823-2A4C-4B1D-9AC2-3F756EF3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677-ED43-4C4B-9E3B-9E896744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EEC8-1B71-4B4A-B9D9-E179E331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6BE-1545-4C4B-9FD2-8C9296E3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94D2-8380-42A1-9B37-21AA8C1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90D5-6E98-485A-83A3-2F3B8AD5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118-E2E5-4013-AE34-CD24967C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2FB3-C5EB-44F3-99E8-63EE2647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74AA-5B40-4509-931D-48F4334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366-1D87-4CC2-B30E-CE1C7A06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0D4-4083-44B4-8617-A8E1A8B9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1DF16-F0AB-497F-8D75-299BB587CF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