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44897"/>
        <c:axId val="17359041"/>
      </c:barChart>
      <c:catAx>
        <c:axId val="72944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9041"/>
        <c:crosses val="autoZero"/>
        <c:auto val="1"/>
        <c:lblAlgn val="ctr"/>
        <c:lblOffset val="100"/>
        <c:noMultiLvlLbl val="0"/>
      </c:catAx>
      <c:valAx>
        <c:axId val="17359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4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93F-2998-4414-9A25-47DEB697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51D-4F6C-44F6-995C-6282528A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506-B3A5-4E33-89F4-044FD012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FFC-2274-49DF-95AD-4E51634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81F-7251-4ADE-AA96-81D9D3CA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B65-52BE-4852-8736-5446BAB1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C5C-CBFB-4F63-8F17-CA4621A7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D92-C32B-416B-9605-1E502BF0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3CB-284C-44ED-9832-F122A360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FFF-ECC7-4B73-84AE-B5E1C3F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FAE-8C28-435D-AE7B-F97585D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12E-ED28-49A1-95F5-967C36A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AC0D-341F-454B-9B84-B2C52A2197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