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55986"/>
        <c:axId val="348151"/>
      </c:barChart>
      <c:catAx>
        <c:axId val="92755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151"/>
        <c:crosses val="autoZero"/>
        <c:auto val="1"/>
        <c:lblAlgn val="ctr"/>
        <c:lblOffset val="100"/>
        <c:noMultiLvlLbl val="0"/>
      </c:catAx>
      <c:valAx>
        <c:axId val="348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55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C7A-85EC-482E-89E1-36CA5740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434-E3B4-4B3A-A1BA-FCB86603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A87-EC8E-4F2C-B34E-D999CC94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2D5-80B8-4974-BCD5-3B9CA232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C58-6799-458B-94A7-6FB81B47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2ED-5B90-4AC7-B73C-BEFD961E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B32-13F5-438F-981F-F654BC19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410-4013-4ADA-9973-0581C619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E12-5659-43E2-A01A-C490B88B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528-3522-44F9-BD7A-92BFC59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6DE-D668-462E-B50C-21CB8988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A1D-D268-4239-A664-26D3C3FD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62442-3DF5-46E9-9A67-0172D30CAC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