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146165"/>
        <c:axId val="66610052"/>
      </c:barChart>
      <c:catAx>
        <c:axId val="881461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10052"/>
        <c:crosses val="autoZero"/>
        <c:auto val="1"/>
        <c:lblAlgn val="ctr"/>
        <c:lblOffset val="100"/>
        <c:noMultiLvlLbl val="0"/>
      </c:catAx>
      <c:valAx>
        <c:axId val="666100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1461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5ADE-2952-446A-B748-A43949E5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8BEC-9EED-4CC4-BB3C-C1EDB87C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759E-8C7E-460C-9C38-B4F0C8F4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A236-2325-42DF-B9A2-C577128F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74BB-AA71-44A9-A092-935B1D93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4675-08A0-4716-B848-68B9EDEE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5D87-EDA0-456D-B302-CD3DA04E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583F-2F12-4898-ACCC-5640D4E2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DA25-AEDB-4C6C-8B9E-A82250ED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8459-CB06-4ECF-88AC-D62BA989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8174-CE0D-45D3-A8AA-B862EE43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68DD-0903-4260-84D7-93FB33AF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15171-9805-48A0-974F-4D19457C53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