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48999"/>
        <c:axId val="90563188"/>
      </c:barChart>
      <c:catAx>
        <c:axId val="16648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3188"/>
        <c:crosses val="autoZero"/>
        <c:auto val="1"/>
        <c:lblAlgn val="ctr"/>
        <c:lblOffset val="100"/>
        <c:noMultiLvlLbl val="0"/>
      </c:catAx>
      <c:valAx>
        <c:axId val="90563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48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B52-B80F-48A6-8D3E-A4F2CA70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43E-BAFD-4C0F-BDAE-6D1C310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1D8-E076-4396-91FB-07788915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561-5272-49A9-B2C5-7633B148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8C0-89EB-457D-A791-DA6FCB3C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CCE-E3E6-4B1F-B628-7265A914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3D6-6F50-4103-B4B5-9B4BAF6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A11-B753-4CDA-8BF4-386BAE6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B34-CE55-4E3B-97B1-778D3A05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F2D-09D5-4020-A42C-40A8B18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8C3-A540-47E6-8CAC-964300CE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F0D-6B15-4293-80B8-873E6196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F6DD4-6EE2-431B-A648-D4418B2B1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