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80275"/>
        <c:axId val="15341483"/>
      </c:barChart>
      <c:catAx>
        <c:axId val="197802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41483"/>
        <c:crosses val="autoZero"/>
        <c:auto val="1"/>
        <c:lblAlgn val="ctr"/>
        <c:lblOffset val="100"/>
        <c:noMultiLvlLbl val="0"/>
      </c:catAx>
      <c:valAx>
        <c:axId val="153414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802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85F3-3A69-4C25-BC44-985276EA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5C4E-2747-474D-8BE4-11F6E6AE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0FA6-F004-4A05-9AA4-E2462557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DDDA-4FF4-4D19-990A-C4052A2A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9236-D70E-421E-B937-699B0CDC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4FC1-4879-45A5-9A8C-CA66D69D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E51-6D82-4DDF-B9DD-89896727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3D45-49AD-41A2-9E1D-7F1AD853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AA0-A329-4F0A-86CE-0B6A059B0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797C-A4DF-46B4-BEE3-09F44BA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415-B578-473F-943C-A155E3FA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1C92-A4D7-418D-A04E-23F782CC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A058B-B8D5-4D58-9D61-06DC6AFB9DE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