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464773"/>
        <c:axId val="21550666"/>
      </c:barChart>
      <c:catAx>
        <c:axId val="954647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550666"/>
        <c:crosses val="autoZero"/>
        <c:auto val="1"/>
        <c:lblAlgn val="ctr"/>
        <c:lblOffset val="100"/>
        <c:noMultiLvlLbl val="0"/>
      </c:catAx>
      <c:valAx>
        <c:axId val="215506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4647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9056-280E-4560-9B69-1E1FC71E1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3972-A9F8-4EA9-B0A5-983153016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1141-DB27-4D24-AEC1-F118B49F2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7F9F-82A2-4C1A-8236-3578B90C9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1585-5EF8-44EE-A900-4B7B9D992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3EFE-6839-4917-B7F8-1C8F7E657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FBC0-1CBC-449D-8C40-9B74A740D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E12F-8C41-4114-810B-E9B1EA522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5657-732C-4E23-8B9E-893240E0D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4152-0CAE-46FD-B198-D911115F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9EB0-27B7-4B4F-9C58-23494071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C17F-ACE6-48B2-BF03-DBDD0438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003603-5975-47CD-85E2-5A2E743204F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