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634416"/>
        <c:axId val="18575649"/>
      </c:barChart>
      <c:catAx>
        <c:axId val="826344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75649"/>
        <c:crosses val="autoZero"/>
        <c:auto val="1"/>
        <c:lblAlgn val="ctr"/>
        <c:lblOffset val="100"/>
        <c:noMultiLvlLbl val="0"/>
      </c:catAx>
      <c:valAx>
        <c:axId val="185756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6344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ACF7-3E99-495F-A0FE-6177826CC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3864-ECA2-47E6-938D-C0A3BF23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2785-F4BF-4B6D-9445-CCD2E4907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EED3-D76F-432D-A29C-55C00D153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59DF-1B00-4634-8EFE-65312229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91FE-F409-48BE-B52E-07E0A376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EA38-7900-4A68-94D6-C7EBF89C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80CE-B04C-4B04-9D39-ECEA3B31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125E-D707-4598-AB08-9FDA1129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CB4A-8DBA-42A2-B574-2A02CAB7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0708-0DB3-48B5-938F-D79C6ED6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EBAB-197F-446B-A264-60FB7398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8110D6-C14C-411B-A111-94B5C8A024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