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83094"/>
        <c:axId val="63180096"/>
      </c:barChart>
      <c:catAx>
        <c:axId val="62583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80096"/>
        <c:crosses val="autoZero"/>
        <c:auto val="1"/>
        <c:lblAlgn val="ctr"/>
        <c:lblOffset val="100"/>
        <c:noMultiLvlLbl val="0"/>
      </c:catAx>
      <c:valAx>
        <c:axId val="63180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83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039-250C-47D0-9F57-51836FA2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D6A-7CFA-420A-A6AB-9D2B133C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026-4B08-43C7-BA28-3EF9F3AA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C35-C2BB-4666-B5EB-3BABCCA9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B24-28DB-4BC2-B37C-5068520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7B3-2502-4180-808D-18DD6F34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49E-4DA3-4E4D-8B23-000DD3E4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A1F-3E68-40A2-A106-6819F774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B90-BC17-4811-9FD2-238F61AC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7D9-AD61-467B-9905-85A66384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2FF-530A-476F-BC70-2AF805A2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ABC-1042-4BB0-BBC0-4457DBFF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1D5A8-B906-4B81-BA15-C745796C6F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