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0827"/>
        <c:axId val="20935277"/>
      </c:barChart>
      <c:catAx>
        <c:axId val="515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5277"/>
        <c:crosses val="autoZero"/>
        <c:auto val="1"/>
        <c:lblAlgn val="ctr"/>
        <c:lblOffset val="100"/>
        <c:noMultiLvlLbl val="0"/>
      </c:catAx>
      <c:valAx>
        <c:axId val="20935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B9A-0CD4-4BF1-9CF0-8581A266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75F-BCD7-4C32-BA9C-32374DB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2D0-600B-4973-A152-D97DDBB9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03C-FEEC-4BD5-9E0C-655FA9F2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B35-9BA5-47AA-B73E-4BBDA54A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D21-0D77-4553-B890-DEB89C3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505-FB04-4337-BCEE-9B8F75F6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1EC-EFEE-4AE2-B67C-003AD560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0E2-4B92-4EA5-88E1-C2E8F182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8AF-2409-4D36-B06B-EBC7AACA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B5A-3FDB-4CEE-8E51-726C875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91E-8949-4653-A18B-BAFC0CD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5DEB3-F950-42BA-B613-DF8C9E15B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