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6765545"/>
        <c:axId val="30581670"/>
      </c:barChart>
      <c:catAx>
        <c:axId val="8676554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0581670"/>
        <c:crosses val="autoZero"/>
        <c:auto val="1"/>
        <c:lblAlgn val="ctr"/>
        <c:lblOffset val="100"/>
        <c:noMultiLvlLbl val="0"/>
      </c:catAx>
      <c:valAx>
        <c:axId val="3058167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676554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8593E-DB90-469A-B7D8-EF2DCC6AD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CD4DA-E5A4-4603-868F-1C4F914F0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D33AA-3B98-4D3C-B9BA-69F163BF6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B6D69-70D9-4384-A886-54B40720E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A8043-861E-4F7D-9A6F-98F2DB894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B8D46-8AEC-4BB4-8FF8-925228CBA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F467E-021F-47D9-9EAD-EC9BD4E81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7A603-F682-4D60-800B-D23C511BB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3907B-D96D-48BD-8F04-1270601BF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63636-DCD6-43E8-B7FA-C76C5E9AC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A01FE-C48A-4EF6-9731-E600C02F9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F9C17-1B40-4E25-BC31-D5AEB8E02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F1957F-3B6E-4C65-958D-9DE5915C3C7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