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12572"/>
        <c:axId val="61411514"/>
      </c:barChart>
      <c:catAx>
        <c:axId val="94512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11514"/>
        <c:crosses val="autoZero"/>
        <c:auto val="1"/>
        <c:lblAlgn val="ctr"/>
        <c:lblOffset val="100"/>
        <c:noMultiLvlLbl val="0"/>
      </c:catAx>
      <c:valAx>
        <c:axId val="61411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12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201-8AF2-4B5A-9B1B-0E386DEF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7A8-5F62-49DE-98DB-EE6B3585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9AF-5B91-4CF0-9E57-3282ECF7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A67-472F-4ABF-A470-E041668C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22C-3638-48D4-A9EA-866F59B2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EFA-1AEF-4F25-8480-DB0C52A1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E96-E996-4DBF-9D5A-32E3BABB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DDB-7347-439B-8C16-B884198E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8FE-FFDC-40BD-B19E-868385AA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A8D-B4F6-456F-BDA5-B1BF8DE2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B25-3D29-4CDA-8A0C-1241E665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15D8-DE2F-4ED4-8FA1-2E4457AC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ADD01-91C4-4865-BB10-0D2D3F5D3E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