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33045"/>
        <c:axId val="29160676"/>
      </c:barChart>
      <c:catAx>
        <c:axId val="35633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60676"/>
        <c:crosses val="autoZero"/>
        <c:auto val="1"/>
        <c:lblAlgn val="ctr"/>
        <c:lblOffset val="100"/>
        <c:noMultiLvlLbl val="0"/>
      </c:catAx>
      <c:valAx>
        <c:axId val="29160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3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FD3-61E3-49B3-A96F-78A2A41A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C37-65F1-47E0-868A-B4B75CA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8C9-8D54-4C4A-B408-F0D09C26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295-9D8B-4993-A3C6-D3036794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64C-7D01-48C5-9012-2A14343A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D94-FED0-4A12-8868-C97E58B4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8A8-B36F-45ED-8CF8-55E58ACC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F3D-13C8-43E7-A9F4-A836A68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D72-594C-4A33-A2DF-EFA3EF7F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40E-9EEE-4DE3-AEDE-BE08318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A79-6CB0-46F8-B38F-3E05CFB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17D-13EF-4649-BCAD-2751DA8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7362D-0EDC-49D2-8C47-F04679C83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