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84015"/>
        <c:axId val="34358070"/>
      </c:barChart>
      <c:catAx>
        <c:axId val="70684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58070"/>
        <c:crosses val="autoZero"/>
        <c:auto val="1"/>
        <c:lblAlgn val="ctr"/>
        <c:lblOffset val="100"/>
        <c:noMultiLvlLbl val="0"/>
      </c:catAx>
      <c:valAx>
        <c:axId val="34358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84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B4E-107B-47A9-971C-4A5D448A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ECB3-6AD7-4BF8-B60E-A0C402F6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6E8-1CF2-4D8C-A079-D921D1F4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ADF-1FE7-4CCD-BC94-818CF93B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665-54FB-4A4F-A4CE-BC0DD293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C1D-4CC0-4C72-A24E-71A8303F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EA7-05DB-41CC-9B89-03C8F419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028-A769-418D-A7B7-75534FA3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4BC-ECDC-4CD3-B66A-DAD2DC9B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B1C-B66C-4A54-BEDD-CECAE648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931-297B-4FB3-A91A-380D51E4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5374-22D6-403D-A7BC-311CEA51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259A8-5B22-4318-BAEF-A9273436D7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