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88330"/>
        <c:axId val="14303053"/>
      </c:barChart>
      <c:catAx>
        <c:axId val="29388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03053"/>
        <c:crosses val="autoZero"/>
        <c:auto val="1"/>
        <c:lblAlgn val="ctr"/>
        <c:lblOffset val="100"/>
        <c:noMultiLvlLbl val="0"/>
      </c:catAx>
      <c:valAx>
        <c:axId val="14303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88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2CB-E0B3-4073-9A3E-C694D587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6CA-4006-4EDB-B1B2-D1E46063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A02-25F4-4AF0-9919-2A418093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88E-4346-4676-AC6C-1DA3F838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EA6-1871-4758-B5DD-800A5B05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5B2-E3AE-4ECD-947D-B394A464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FCE-61E8-4129-9484-34A4479F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BB6-1157-44E4-844E-03108792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503-D100-49B2-AF19-E34D5785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B56-B3C7-49D5-B6C6-25B766E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560-FC79-4C0E-AC93-0EA559A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49A-B5F6-4519-AF5F-1E57264B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068A8-28BB-40B2-9195-D4D552294A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