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1364"/>
        <c:axId val="50217521"/>
      </c:barChart>
      <c:catAx>
        <c:axId val="778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7521"/>
        <c:crosses val="autoZero"/>
        <c:auto val="1"/>
        <c:lblAlgn val="ctr"/>
        <c:lblOffset val="100"/>
        <c:noMultiLvlLbl val="0"/>
      </c:catAx>
      <c:valAx>
        <c:axId val="50217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B10-85B7-4ECD-B7A6-4DD4E5BA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4EF-6BE5-47A5-AFFA-2B814C4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79-8459-4EF2-931C-B6977331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40A-4419-457C-A6B8-791CF8E4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582-DC25-48D2-890D-0262638D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59C-6EF8-4356-A8A2-0D86954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3E7-A1C9-4814-B2D9-3F01A6B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C9B-EBB9-4DEC-9A3D-6D27C6D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B94-D0B9-4B43-ADBC-E7CB95B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C74-213A-4E21-8124-E53FC03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A20-E505-431A-B23E-7F35C99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51D-6CE7-4662-99EB-933BDA0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151A-ECF8-4DD5-BE92-61323FECE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