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03426"/>
        <c:axId val="13439110"/>
      </c:barChart>
      <c:catAx>
        <c:axId val="2110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9110"/>
        <c:crosses val="autoZero"/>
        <c:auto val="1"/>
        <c:lblAlgn val="ctr"/>
        <c:lblOffset val="100"/>
        <c:noMultiLvlLbl val="0"/>
      </c:catAx>
      <c:valAx>
        <c:axId val="13439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6B0-17D4-4615-9C56-5D7E2522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E55-AE6E-4782-8FEE-8B9F639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C00-1321-4578-9353-BB3EF7B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689-8903-4BFD-851A-B533C3F3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CF8-42B1-4E53-AC24-044E555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780-199B-415B-A50E-032347F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728-FFF1-4647-8EC8-45855ED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FA9-186F-4854-B3EF-B904EE1F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C67-1737-48B6-9879-DBE1D1C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169-177F-4E5B-A33F-484597A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108-0B02-417E-ABD8-E91F056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95E-5C17-4212-B5E4-9B72AE1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EA453-7B94-4EDB-8F57-E107E06B8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