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149434"/>
        <c:axId val="3919379"/>
      </c:barChart>
      <c:catAx>
        <c:axId val="611494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19379"/>
        <c:crosses val="autoZero"/>
        <c:auto val="1"/>
        <c:lblAlgn val="ctr"/>
        <c:lblOffset val="100"/>
        <c:noMultiLvlLbl val="0"/>
      </c:catAx>
      <c:valAx>
        <c:axId val="39193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1494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BA09-5790-4242-B916-02CC47DE8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8197-5069-4308-A3B7-663CF3532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8D74-DBC0-41C1-B573-24B5355A7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ABE2-7FDD-4E93-8D72-1CCDF99B1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FA6C-C80C-4F20-B4EE-B78727EBF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A275-5A3F-4EFD-A714-2A3370FC9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D98B-4E6E-4B2C-AD44-8C66296BA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A8E6-AE39-460E-AFAC-B17BE0314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6E75-F230-40CF-A6A0-77DD3F620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DC30-4EF8-4073-A64D-4A5A3B36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63EA-2DE0-4F37-ACA7-7EC8F46E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076A-519B-469C-A1D6-4CA5B356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31156B-9F88-4711-83E9-37DEF3112E8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