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51271"/>
        <c:axId val="28534900"/>
      </c:barChart>
      <c:catAx>
        <c:axId val="47512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534900"/>
        <c:crosses val="autoZero"/>
        <c:auto val="1"/>
        <c:lblAlgn val="ctr"/>
        <c:lblOffset val="100"/>
        <c:noMultiLvlLbl val="0"/>
      </c:catAx>
      <c:valAx>
        <c:axId val="285349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512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7BFD-A2A9-41E8-AB5B-F101F91B9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F8FE-C6FC-43FC-9884-023DA87E4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A0E9-8CA1-4AB7-B315-4B2AA3F48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4BA8-11C0-4A69-AC08-8A76587AB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DA73-3DF1-4938-9F5C-8CA89FC15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BB19-C49A-47D5-9183-9F6134AE4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796A-4111-4831-8015-655010B26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E70F-2497-4A46-98B1-390B7AD48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31FC-8587-4FA0-97F1-8A6EBC30F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E0C8-19C5-476A-BA64-631FEE9BB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C7CB-B0D3-4CDE-872F-98A59D640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72EB-89CB-43A2-BA9E-A235802F3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10B4CF-B62D-4C17-940D-9B508A29DCE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