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46799"/>
        <c:axId val="93574020"/>
      </c:barChart>
      <c:catAx>
        <c:axId val="74646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74020"/>
        <c:crosses val="autoZero"/>
        <c:auto val="1"/>
        <c:lblAlgn val="ctr"/>
        <c:lblOffset val="100"/>
        <c:noMultiLvlLbl val="0"/>
      </c:catAx>
      <c:valAx>
        <c:axId val="93574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46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B364-2971-4474-92E4-0CAEA5B7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FB58-493F-47D7-B563-CC37CE85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F73-3A93-4BDD-AF7D-FBFD8D97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01ED-686F-4633-B8F4-3F9F757F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9BB-8262-417F-B96F-289A9B91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B2CB-0FF0-421A-BC0C-09AB813E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682-524E-4EB8-9FCC-E82AE253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DB8-59EF-428C-9CB3-489351B9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6A1-E867-4A71-9CC7-1717231D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FF0A-7DDB-4948-B3B7-930FFC6E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FAE-70B7-4527-86AD-2CDCA06A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7A5B-84AC-4F9A-8EBD-22BE0CFE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21C2F-D87C-43E5-AEA5-B11B169A35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