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44764"/>
        <c:axId val="27453762"/>
      </c:barChart>
      <c:catAx>
        <c:axId val="80944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53762"/>
        <c:crosses val="autoZero"/>
        <c:auto val="1"/>
        <c:lblAlgn val="ctr"/>
        <c:lblOffset val="100"/>
        <c:noMultiLvlLbl val="0"/>
      </c:catAx>
      <c:valAx>
        <c:axId val="27453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44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CF2-25BE-4BA1-8479-8A93F12F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F4F-9478-4C8F-812D-791FB555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AAC-156D-46CA-AD6D-545752EE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0DB3-C54C-4546-85C5-E1A17C22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053-5490-4775-9DA5-A352E7A5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04F-145F-4582-B974-7E114DE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AFA-E39A-492A-9D75-6A65CE9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DD0-D08E-4D01-8C55-4937C28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2AE-B05B-474F-8AAF-F56DB063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4EC-05BE-45DC-966A-86CAAD4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5F7-5E6D-4197-8CDC-B0F15C4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986-D662-4E27-A867-3836603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A79DA-4588-4603-BBB0-4459C48EB1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