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69373"/>
        <c:axId val="22615690"/>
      </c:barChart>
      <c:catAx>
        <c:axId val="92369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15690"/>
        <c:crosses val="autoZero"/>
        <c:auto val="1"/>
        <c:lblAlgn val="ctr"/>
        <c:lblOffset val="100"/>
        <c:noMultiLvlLbl val="0"/>
      </c:catAx>
      <c:valAx>
        <c:axId val="22615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69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9AE-D9FA-443E-8FFB-7E2533E8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FF2-BE7C-4B97-9C83-D6A9DD22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5BC-3787-49E2-88B1-8EB481CF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4E6-E1E0-449A-83C2-7D1C715B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B30-47BC-45AC-B53A-9981279E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1FF-6C13-4938-99F7-97F64CF2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9A2-67EC-4AE0-B37C-2E2E24E9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01C-358B-41A9-BFFA-FF3F645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DA6-427C-4362-87A5-BE697650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E01-0F35-42FC-95E9-10C6379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CF8-2EAE-4652-80EA-02663FA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E64-AE6E-4105-8EC6-BDD73A9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A6EB8-B99C-47EE-82F6-E3BA09F9DB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