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87753"/>
        <c:axId val="18048333"/>
      </c:barChart>
      <c:catAx>
        <c:axId val="68687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48333"/>
        <c:crosses val="autoZero"/>
        <c:auto val="1"/>
        <c:lblAlgn val="ctr"/>
        <c:lblOffset val="100"/>
        <c:noMultiLvlLbl val="0"/>
      </c:catAx>
      <c:valAx>
        <c:axId val="18048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87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243-D3A0-4004-8B0A-9BC6BBB5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990-2DB8-41D0-BC48-D93266FE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5FE-CE58-4C66-8695-502A53CD3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0ED-AFFB-4910-81D4-2F03D72B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5A3-9465-4B99-AA0C-496CE4EB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CC1-6E13-48D5-8C83-2D238970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57C-8CBD-463A-8EDC-80768091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5A7-2C31-47F9-B4CC-1368B4D2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47BC-12AD-4616-A0F8-4160AAC1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329-3903-4177-A35F-81E71705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613-DF42-4A63-9495-0463146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401-FD51-4128-AE4C-32320768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5A6C8-D4A6-4E1A-AA8E-87025D4BE0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