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26358"/>
        <c:axId val="48347447"/>
      </c:barChart>
      <c:catAx>
        <c:axId val="57326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7447"/>
        <c:crosses val="autoZero"/>
        <c:auto val="1"/>
        <c:lblAlgn val="ctr"/>
        <c:lblOffset val="100"/>
        <c:noMultiLvlLbl val="0"/>
      </c:catAx>
      <c:valAx>
        <c:axId val="48347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26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F98-197A-432A-BDD3-A2095F8F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4CB-577C-4C92-9A36-9C46B5A8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521-0321-45E3-9497-22F7FD86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C5-AD60-4135-BF5F-7BF909EA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F23-5D8B-4480-93AA-8C1BF74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DB2-0168-4020-B05C-3B75A6A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DB8-2231-4113-9AB6-568E234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F22-8595-47A6-8C89-CABD3F59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079-6488-49C4-A5EA-25C26D86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6F3-3253-4C3E-8999-08494CC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98C-7E26-4CF2-BA26-5138286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155-2252-4221-B329-B958D58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C3FB4-AAC1-4D9A-921F-281F240B7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