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59184"/>
        <c:axId val="59901641"/>
      </c:barChart>
      <c:catAx>
        <c:axId val="94559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01641"/>
        <c:crosses val="autoZero"/>
        <c:auto val="1"/>
        <c:lblAlgn val="ctr"/>
        <c:lblOffset val="100"/>
        <c:noMultiLvlLbl val="0"/>
      </c:catAx>
      <c:valAx>
        <c:axId val="59901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59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D64-AFAB-48F1-8318-6C565B08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31F-0C5D-400A-B5A1-0FC15127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621-6B42-4318-B6A3-8FC18B61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FE2-6DE6-4A21-BC27-F97065C2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48C-F7D3-48A7-BC74-6F6501A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2BB-93A0-4B06-9505-FCF4B12D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DDA-4377-49BF-B62F-33EBE2B7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C74-4337-4075-A7BF-279BB526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B78-E430-4CAA-9464-32DCAF5B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7BD-467D-421C-A5CF-1C7C6443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6A1-F242-49B9-A906-086C6F8E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6F3-E22F-4989-AAE5-4DF3597B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C01ED-B85F-4E50-A177-6458FDAA8D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