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84913"/>
        <c:axId val="35332853"/>
      </c:barChart>
      <c:catAx>
        <c:axId val="63784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32853"/>
        <c:crosses val="autoZero"/>
        <c:auto val="1"/>
        <c:lblAlgn val="ctr"/>
        <c:lblOffset val="100"/>
        <c:noMultiLvlLbl val="0"/>
      </c:catAx>
      <c:valAx>
        <c:axId val="35332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4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D06-72BD-4631-8742-A5250EC2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A6A-50D2-4218-A363-0BAAA1C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624-1A45-4B32-A149-E3B782B6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956-AE16-4735-BAB5-4097826C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90D-35BE-4C3D-BE07-033B400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87C-3A39-4A08-87B2-099462D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85D-B204-4055-BF7A-DB60B052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198-D017-4D25-841C-BADA07A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9A8-4FE4-459F-BB1F-715F23A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1CF-A665-48E0-9468-51ED4F2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AD2-7BA7-4689-81CA-3D6CA5C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E52-027A-49F0-8065-04661E7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32A3-B7FE-4688-A2A5-29722C36F4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