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132361"/>
        <c:axId val="68427026"/>
      </c:barChart>
      <c:catAx>
        <c:axId val="441323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27026"/>
        <c:crosses val="autoZero"/>
        <c:auto val="1"/>
        <c:lblAlgn val="ctr"/>
        <c:lblOffset val="100"/>
        <c:noMultiLvlLbl val="0"/>
      </c:catAx>
      <c:valAx>
        <c:axId val="684270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323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51F2-EDA4-4472-A0ED-5EC62C79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31E9-0B1D-4D51-AE34-F3C10359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ABBF-7AAA-40D6-89B8-91FD4AB3C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01C4-312D-4850-81A0-3B89D82C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8E10-37CD-4331-82DD-B2865E18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6558-85E7-4F68-8AF1-15F8FC89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4DD2-B3B1-4EF7-84E8-FF67FC4E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7E7F-69D8-4DFE-B083-42DB58AD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5EC-FE39-4ED8-9A9C-6316198F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CE0B-ACED-444C-AD67-7D7D3EA1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427-A270-42F0-825A-A3E6EFA3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CC9-983F-4234-A969-C2FF9E98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7FB654-9BE7-4FA1-BE32-D5950FE3FA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