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93091"/>
        <c:axId val="44283786"/>
      </c:barChart>
      <c:catAx>
        <c:axId val="444930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83786"/>
        <c:crosses val="autoZero"/>
        <c:auto val="1"/>
        <c:lblAlgn val="ctr"/>
        <c:lblOffset val="100"/>
        <c:noMultiLvlLbl val="0"/>
      </c:catAx>
      <c:valAx>
        <c:axId val="442837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930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919-C57F-49BD-8BDA-F165DF07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558A-C43C-42B5-9CAC-BCC5C4BA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76A7-462B-47F7-95A6-54688822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A4A7-86CE-481D-82B3-AD0B355B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E54-5CD5-405A-AC8C-DFA5C336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BBB-18F2-4955-B4D8-38B61A1D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E3D-B094-4904-AEE1-A08CEEB4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1192-DFB1-4B1C-A98B-4F715C11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BEA-2A92-4B9E-9D5A-0B3FFD7A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6BA-DC2C-4BFC-99F8-65B09743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DF0-A8BA-46BC-A59F-6A8B1848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F7E-3817-44DF-9522-F5B124CC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5AF68-273F-4D02-8422-8F428B909C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