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66"/>
        <c:axId val="89528027"/>
      </c:barChart>
      <c:catAx>
        <c:axId val="73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28027"/>
        <c:crosses val="autoZero"/>
        <c:auto val="1"/>
        <c:lblAlgn val="ctr"/>
        <c:lblOffset val="100"/>
        <c:noMultiLvlLbl val="0"/>
      </c:catAx>
      <c:valAx>
        <c:axId val="89528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7A1-E734-48C5-B213-B3DFD01F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20A-7CBD-4063-A240-D19A9E04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6A0-F921-4254-BC78-C8C1BBF2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418-D897-4D87-9E01-4A3E16E7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CB8-F022-4D74-BE00-3F3C05A0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14C-CAA0-40E4-8C6C-E4B02AB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9E1-94E5-4095-A555-3CF62379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AAC-B993-4FB9-BFA7-89C1DF19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CAB-327E-4D99-8295-92301AA1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B6D-3F7E-459D-B6A4-8599752C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ACD-178B-4520-A7DD-1648DDC8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5C3-7A87-41B7-B924-89D5CDFC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D2791-2365-4F19-B36C-4CCBC99DE1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