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52319"/>
        <c:axId val="5772919"/>
      </c:barChart>
      <c:catAx>
        <c:axId val="54852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2919"/>
        <c:crosses val="autoZero"/>
        <c:auto val="1"/>
        <c:lblAlgn val="ctr"/>
        <c:lblOffset val="100"/>
        <c:noMultiLvlLbl val="0"/>
      </c:catAx>
      <c:valAx>
        <c:axId val="5772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52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7C2-E3A8-4461-9ED0-5E679BAA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406-9750-42E4-9B77-D73334A1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0BC6-9EE5-4D34-BBF5-EFEDA55B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A59-EDD8-497C-982B-C6D66CB4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945-D53D-437A-83E0-A86DEFD9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800-14B8-48F7-B58B-CEEE4BE6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C92-6313-43DA-BB2F-B2226E6B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A66-40F9-48A4-A8B8-451BB22B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82B-2CCD-4EB9-9DB1-0D65FEAD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F4A6-1079-438E-8A6E-C0C3DB5F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B5E-849B-4CDB-AEDF-9607B1D3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90D-9824-4BE7-84F7-ABEF0F49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C8866-F03B-4579-A914-0874BBED6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