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00396"/>
        <c:axId val="61639101"/>
      </c:barChart>
      <c:catAx>
        <c:axId val="28500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39101"/>
        <c:crosses val="autoZero"/>
        <c:auto val="1"/>
        <c:lblAlgn val="ctr"/>
        <c:lblOffset val="100"/>
        <c:noMultiLvlLbl val="0"/>
      </c:catAx>
      <c:valAx>
        <c:axId val="61639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00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9EC-C01A-4880-89A0-647C5F20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43D-3209-4CA7-9A4A-55D47071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B63-7AD5-4417-A68D-47BB36ED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A81-D7B2-4BEE-82A6-6594EEF6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9132-80E3-497B-919E-E93B0512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64E-297E-4A13-A3D7-DBCD28A5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094-F0A6-4E81-8CBD-D50870D2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FEF-A831-440C-9560-5DBEE58C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2B54-FC04-4E9A-9C6B-0D07554A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167-27E9-4715-82DD-CDD715AC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E41-083B-47BD-98D4-A26AFFAF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A01E-2A3F-488F-9634-5E810C8D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D6F15-6508-416A-B7CB-FFE0FB7775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