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22987"/>
        <c:axId val="30741181"/>
      </c:barChart>
      <c:catAx>
        <c:axId val="97822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1181"/>
        <c:crosses val="autoZero"/>
        <c:auto val="1"/>
        <c:lblAlgn val="ctr"/>
        <c:lblOffset val="100"/>
        <c:noMultiLvlLbl val="0"/>
      </c:catAx>
      <c:valAx>
        <c:axId val="30741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22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C93-D875-45A3-B307-F7B0A2B8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475-6109-42C0-A611-231CE87F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1F0-9A6E-4710-829B-3AD342D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F18-9D8D-4923-BE4C-FFF5016B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E79-036D-4086-BA50-92D098B7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C85-936D-4CA0-8F5D-1CA9B0B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614-8347-47D6-9B05-CB3570F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D69-F3BE-4B80-9EDB-5A9E86B3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126-B3C6-4455-B8E7-CDDAE7B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26-8EDA-400F-9C3B-2837812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9F8-2CA5-4BD0-B6A1-F64D80D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DAB-0D17-4608-910B-6B543AC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95AC-7476-4E3B-AAF1-34421F2CA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