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89609"/>
        <c:axId val="68589553"/>
      </c:barChart>
      <c:catAx>
        <c:axId val="60289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89553"/>
        <c:crosses val="autoZero"/>
        <c:auto val="1"/>
        <c:lblAlgn val="ctr"/>
        <c:lblOffset val="100"/>
        <c:noMultiLvlLbl val="0"/>
      </c:catAx>
      <c:valAx>
        <c:axId val="685895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89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389-8C2D-4C61-A9F7-3186BC15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BB1-2E71-4CFF-B31C-FA549B85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D57-1F12-4C40-BC32-3EAC84C7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489-AE2E-4B1E-8D60-DD76F3CE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A04-0480-47CB-9850-BF11C78D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0689-8BF7-41F6-AAC8-95D11E7E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81A-6D37-4B59-BA29-C8C97AE0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D09-65EA-4068-BF88-2A0D9BB1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AF4-A63F-4CCA-9CA2-29A7B8B3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E465-BA1A-467D-AA89-8B45E901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F39-B849-44DE-AFE8-89CCAFAF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FB0-2A45-4889-8B0D-39D6BFE5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F6922-4B2E-4C6A-BE60-9AF93491F9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