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4300"/>
        <c:axId val="64273360"/>
      </c:barChart>
      <c:catAx>
        <c:axId val="9734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73360"/>
        <c:crosses val="autoZero"/>
        <c:auto val="1"/>
        <c:lblAlgn val="ctr"/>
        <c:lblOffset val="100"/>
        <c:noMultiLvlLbl val="0"/>
      </c:catAx>
      <c:valAx>
        <c:axId val="64273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4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A47-6872-4D4D-97D1-F95669D4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93E-0F0C-4CCC-A178-0445107B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3A6-2190-4384-885A-CE01058B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2B8-4B3B-44A5-AC62-EDA7C3A7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C6C-3A95-4FA3-8285-3CBE554B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F6D-DD6D-4685-B3B5-3CDADA83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C86-8C91-47F6-B15A-345F2D7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3AD-5BAB-450B-92AB-0E698D4B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CC2-0FFF-4509-9773-B8CE090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AA1-180C-440D-839D-6963AEA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B87-B9AC-41BD-95C2-F431907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2EC-6429-475B-A0CF-CB15667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F3A65-D011-4C39-87C1-A12B236BD8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