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0000"/>
        <c:axId val="13923742"/>
      </c:barChart>
      <c:catAx>
        <c:axId val="9448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3742"/>
        <c:crosses val="autoZero"/>
        <c:auto val="1"/>
        <c:lblAlgn val="ctr"/>
        <c:lblOffset val="100"/>
        <c:noMultiLvlLbl val="0"/>
      </c:catAx>
      <c:valAx>
        <c:axId val="13923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CF9-1DAE-4914-B411-75B56964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71D-AD0A-47C0-87A1-80E2C267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8BB-DBD7-4AC6-92FF-4E6A413C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CC2-D095-4857-902D-11DF753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057-DD4C-4C1C-9F4E-6BF150E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9AA-D81F-4B25-A2A8-E1C1777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CEE-4344-46DD-AD58-7AC8A05C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46B-D0A5-4D6F-B539-3E4A5B2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2AF-902F-48FE-A071-3B2D8EC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578-07A6-4C74-AC46-A2C3602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9A1-075B-4BAA-A0DA-BE186B1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7E8-F9DE-4CF0-ABC4-EE23C3B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62B65-BB7D-4D18-A85A-02B316C0F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