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508569"/>
        <c:axId val="31341113"/>
      </c:barChart>
      <c:catAx>
        <c:axId val="465085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341113"/>
        <c:crosses val="autoZero"/>
        <c:auto val="1"/>
        <c:lblAlgn val="ctr"/>
        <c:lblOffset val="100"/>
        <c:noMultiLvlLbl val="0"/>
      </c:catAx>
      <c:valAx>
        <c:axId val="313411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5085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C00E-5651-4842-AB18-DA233289C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D6E5-9A66-4CA2-A78D-0071A166C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7897-CDAC-4758-B5AA-B61920435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D34E-287E-44F2-924C-9E25A81BA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461E-A210-47C8-A2F5-D89BEEC07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A818-3271-4347-8FAE-1477F686A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EC4D-7255-4B03-BFEB-C9112BCC2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EA22-6CA5-4B82-BD70-F905D9CCC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AA98-8347-4AC2-955D-73D3DBEFC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C774-1DAA-446A-BF5A-9B2095E5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8B8C-EEEF-4691-B9FC-DBC155DA2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F0D6-9F7B-4116-9B44-93018BD56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3337C7-DD65-4E50-B6C5-2AE329B86D5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