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29548"/>
        <c:axId val="45367451"/>
      </c:barChart>
      <c:catAx>
        <c:axId val="20629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7451"/>
        <c:crosses val="autoZero"/>
        <c:auto val="1"/>
        <c:lblAlgn val="ctr"/>
        <c:lblOffset val="100"/>
        <c:noMultiLvlLbl val="0"/>
      </c:catAx>
      <c:valAx>
        <c:axId val="45367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9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F23-0114-4345-A133-797A89DB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A00-6A01-4204-8DCB-52149CC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9CB-A526-448F-8C35-448A1A9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C27-0BCE-411A-93A8-0A278416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E96-B2AB-4D67-A896-6157680A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7AE-6D4A-4634-94A5-967E4D0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FFA-1489-4384-9C78-936879AC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54C-C982-4AF5-A377-993400F1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DA7-B580-45AF-A918-4F698B3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470-2A4A-42D4-8DA9-6B69F69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095-AEEC-4DE8-B770-7F3D4FC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A26-8139-4CF5-986B-79C09D1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0A11F-9478-467B-A06D-37AFD37403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