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75f80"/>
                </a:gs>
                <a:gs pos="50000">
                  <a:srgbClr val="d989b8"/>
                </a:gs>
                <a:gs pos="100000">
                  <a:srgbClr val="975f8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443088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BED60E6B-D536-473D-95FF-2920F6C440F7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07347D44-F340-4A32-ABFF-AF47B28C29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Backup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ngle Backup Coord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letes each phase before moving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ges entire backup to local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wo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Size a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more than 2GB per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p to 11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0 minutes cl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5 hours remote dump (200K/s) (pma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 hours writing to tape (160K/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80K/s remote dump P6-&gt;P6, old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800K/s FTP P6-&gt;P6, new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ging area fills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GB/night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icult to restore from t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rrent speeds and size will not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s ancient version of ‘tar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ackup System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da Inter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for incremental 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 lists of backed up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ackup System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ter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uble buffer “staging”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ose structure on 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le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backup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tapes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nticipated Size a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6 - 20 GB on full bac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DAT drive, claims 1 - 2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 Eth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rrent speed of ~800K/s -&gt; ~6 hour 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isadvantages of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iled backups will not be in staging area... ...But are resta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tape form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T Vs Exa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dvantages of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utomated re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s ‘modern’ backup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.E. 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Coda</cp:lastModifiedBy>
  <cp:revision>0</cp:revision>
  <dc:subject/>
  <dc:title>Current Backup System</dc:title>
</cp:coreProperties>
</file>