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46D9-7152-4111-A64D-B82D280DD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9C69-B51A-4B57-B159-E121B8577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CB23-C8CB-41AC-ABCE-CD49BB2E6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09B3-69D6-41BE-9557-19723BF26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1285-476B-426C-9452-82D6AC94D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C273-9C6C-4B27-942F-CDA36177C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1F52-1EF8-4C73-816F-697B82B07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7BEA-65B8-4A0F-9147-10508718E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9971-2725-411D-9B9F-813180B7E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488E-2CF6-43A0-B96A-3DAE8B072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2B31-980D-468A-ABE6-E476585A6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D89B-A9E6-41C7-A077-B1F9C901B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09D64-4720-4539-961F-E2640D190E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PC2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napshot of Understa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ter J. Bra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bert Wat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cket Headers (60 octet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oVer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identify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moteHandl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enderHand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Hand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ceiverHandle (not need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ag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4 octets: SE, Color, 2 for R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dyLeng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? Checksu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eqNumber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goes up by 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pCod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to decipher 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Fl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DataOff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ubsysId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to hand to sub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Co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mpo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distributed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quef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Sta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d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side effec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a collection of hoo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ary purpose is to do a “pre” and “post” RPC processing, e.g.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tch(0x21.0x3.0x6) initiates and completes a side effect in RPC2 stub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hooks are functions: at setup, binding, before and after RPC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hook in the connection are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deEffect are not part of RPC2 protocol but ar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ti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amet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bind and RP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838080"/>
            <a:ext cx="914400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nauthenticated Bind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143000" y="170172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157464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52280" y="914400"/>
            <a:ext cx="8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43000" y="914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848720" y="9144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81680" y="447660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1142640" y="43243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800600" y="2587680"/>
            <a:ext cx="3886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ts up a Centry for this connectio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ndling runs inside SocketListen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PC system higher up run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PC2_NEWCONNECTION co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g ViceNewConnec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73880" y="5667480"/>
            <a:ext cx="319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is told SenderHandle of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nection state set to C_THINK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28600" y="27082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027440" y="220968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800600" y="497844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nds same packet back with fix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nection inform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29400" y="914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762120" y="601992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525780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449568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2120" y="38098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31240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2120" y="24382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62120" y="17524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120" y="10666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609480"/>
            <a:ext cx="914400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763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ice &amp;Callback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43000" y="119376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2280" y="533520"/>
            <a:ext cx="8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143000" y="533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848720" y="5335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705720" y="1879560"/>
            <a:ext cx="99036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1143000" y="20574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71680" y="3124080"/>
            <a:ext cx="298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ts up callback conn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 there isn’t one yet for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128600" y="209880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05280" y="1066680"/>
            <a:ext cx="316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514600" y="175248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fter sending this Vice runs ViceNewConnection to register client hand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629400" y="533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565360"/>
            <a:ext cx="18288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wConnect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971800" y="2438280"/>
            <a:ext cx="316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705720" y="3200400"/>
            <a:ext cx="99036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143000" y="393696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90920" y="380988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fter sending this Vice runs ViceNewConnection to register client hand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429000" y="4524480"/>
            <a:ext cx="2838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erify Client is working, make a gratuitous callb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400800" y="4622760"/>
            <a:ext cx="129528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llb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143000" y="5384880"/>
            <a:ext cx="11430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90920" y="5356080"/>
            <a:ext cx="388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callback request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943600" y="55846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943600" y="279396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943600" y="144792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43600" y="41148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1143000" y="34290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3000" y="63244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1143000" y="48006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6172200"/>
            <a:ext cx="11430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429000" y="6048360"/>
            <a:ext cx="283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wConnectFS now comple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i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PC2 manual describes API, we ne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ocol descri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details about intern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implementation s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g fixes: security, laptop networking, st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ably more clarity in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ges in protocols will accompany some bug fix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gnore all MultiRPC and Failure pack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 decisions will have to take these into ac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yers in RPC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yers are not clearly separ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lying design does allow good lay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are with ISO stack and relate to it where appropriate, ie at network and transport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ep in mind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828800" y="281952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411480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411480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0" y="281952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28800" y="396252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43400" y="28195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01560" y="5464080"/>
            <a:ext cx="564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these types of code are mix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ncipal Abstr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cketBuffers: header, body; sit in a po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ntry: RPC2 logical connect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ndles: point to Centry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Entry’s: handles for packets, with retry info, destination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stEntry: Encode remote host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04920" y="54864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4479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47242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DP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040280" y="5638680"/>
            <a:ext cx="178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 Addr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038480" y="474012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r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38480" y="1447920"/>
            <a:ext cx="4419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iable 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ou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ndwidth adapt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Connections with hand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et format, header XD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304920" y="1447920"/>
            <a:ext cx="8610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480060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PC2 Transport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55627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ftware Protocol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47242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 XD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4479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subsyste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46483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2911320"/>
            <a:ext cx="41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 remote procedure c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marshal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343400" y="1447920"/>
            <a:ext cx="37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ce.rpc2, callback.rpc2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ly the “Coda protocols”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343400" y="2895480"/>
            <a:ext cx="373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RPC is specified by an integer and takes arguments which are of such and so a typ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266688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343400" y="4724280"/>
            <a:ext cx="3733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rguments for RPC’s are to be packed and unpacked in the following way. (Language Independ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04920" y="1447920"/>
            <a:ext cx="8610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5715000" y="5410080"/>
            <a:ext cx="289548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twork lay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s local IP&amp;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builds 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715000" y="3352680"/>
            <a:ext cx="2895480" cy="1524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DP lay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sendto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use socket f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 remote port/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Xmit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715000" y="838080"/>
            <a:ext cx="289548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cketbuffer hand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ame is SL_En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rrange reliable transmi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yield to SocketListe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cide on Sle-&gt;return_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SendReliably &amp; snipp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80880" y="3962520"/>
            <a:ext cx="289584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ogical conn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name is C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map Handle to C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await correct state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n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encryption of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nippets of code all o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.g. in RPC2_MakeRP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838080"/>
            <a:ext cx="228600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 (reques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ocate buff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marshalling of ar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voke SideEff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a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top and botto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Make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90720" y="28954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429000" y="2590920"/>
            <a:ext cx="213372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010280" y="2819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086600" y="4952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09920" y="-57240"/>
            <a:ext cx="40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nding Protocol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819520" y="838080"/>
            <a:ext cx="228600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(repli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s local IP&amp;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builds 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co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SendRespon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violates laye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1219320" y="2895480"/>
            <a:ext cx="2133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5486400" y="1447920"/>
            <a:ext cx="2895480" cy="1523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pcod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CurrentRepl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OldRequest: retransm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CurrentRequest:  bus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NewReques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Decode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2971800"/>
            <a:ext cx="2895840" cy="1676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cket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ame is RPC2_PacketBuff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allocate buff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do recvfr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extract sender 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XDR on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rpc2_Recv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685800"/>
            <a:ext cx="28958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etwork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ceives 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hands to UDP la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76520" y="2666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3505320" y="1676520"/>
            <a:ext cx="19047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187720" y="-46080"/>
            <a:ext cx="437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iving Protocol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1828800"/>
            <a:ext cx="28958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DP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nds socket, wakes up 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IOMgr hands to SocketListen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76520" y="1523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4800240" y="2590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458200" y="1828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763120" y="18288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800600" y="4267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657600" y="3124080"/>
            <a:ext cx="289548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ubsystem Layer (reques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SLEntry, locate recip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wake it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FindRecipient, DeactivateS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3505320"/>
            <a:ext cx="2210040" cy="1828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 (repli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ake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n marshall, transl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rrrors, return from 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tub code &amp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Make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733920" y="4648320"/>
            <a:ext cx="2819160" cy="1447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??_GetRequest unmarshall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ecute server RPC hand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respo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5181480"/>
            <a:ext cx="2895840" cy="1447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nection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nslate SenderHandl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_En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if no CE_Entry: Handle_INIT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decry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code lying all o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4724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05320" y="2590920"/>
            <a:ext cx="0" cy="32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352680" y="58672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6T17:10:43Z</dcterms:created>
  <dc:creator>Braam</dc:creator>
  <dc:description/>
  <dc:language>en-US</dc:language>
  <cp:lastModifiedBy>Braam</cp:lastModifiedBy>
  <cp:lastPrinted>1998-03-18T15:56:12Z</cp:lastPrinted>
  <dcterms:modified xsi:type="dcterms:W3CDTF">1998-03-18T19:42:36Z</dcterms:modified>
  <cp:revision>9</cp:revision>
  <dc:subject/>
  <dc:title>RPC2</dc:title>
</cp:coreProperties>
</file>