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35EEF-C7F5-49D9-8136-E9A277A3F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8AAB9-3632-4A33-8CF0-17FA1DB6E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7D302-B844-4E7B-9497-BDFA7DCF3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6CF36-05CB-46C8-8FF8-A9F53BC1D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B11AA-86A5-4B05-96ED-9944CFEFD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4CA14-E9F0-4CD1-973C-5D553FC81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F30EC-FBB6-4686-BFEC-1CD573F2B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5DF1C-BDA1-4657-81C5-BEA2FA54C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2318C-8CE0-4FAE-BEB0-202D5AB10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155B5-B962-47F0-A158-0CAAECFBA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4D445-3F30-4F74-9096-D69C1DB19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01D1D-65D1-4BE5-9ABD-0366CC2C7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0B896-BA1C-4933-9B46-EFFB7B7E0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17C41-8A9A-4FCC-8B4F-A84AA45FD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39C85-C835-4CAF-A3C4-7AAA0C782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71A30-EB65-477E-9391-5633C9EE7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35883-589D-4BD5-8E13-71E23732F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A2D9F-DF98-46A4-A684-EB645427D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297A2-E447-4C0E-92EB-45C3849DD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8D643-C30C-45B5-AFDD-2F726AC31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4610D-E507-492E-9176-689EE0235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4C8F8-ABA6-496B-9A0C-F2334B84E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00BC1-A94B-4E11-9857-61FB7CBA4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42B49-E35C-429D-9817-06301E617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8B2FA-DBBF-49BD-9348-673CA871080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DF92D-82A3-4DA3-855E-CAA945A8BE8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oda Directory Handl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eter J Braam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ata Structur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contents: DIR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handles: DH api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inodes: DI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handle cache: DC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d support: FID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irectory content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Blob of data -- size multiple of 2048 byt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s names and NDirFids (vnode, uniq) in network ord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s freemap, hashtable and other organizational structu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ents stored contiguously in Venus RVM, by page in server RVM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irectory Handl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 pointers, lock and refcount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tored in VM in the server in hash tab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tored in RVM in client, pointed to by fsobjs as part of VenusDirData.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ost operations on directories go through the DH api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rver has a DH cache -- needed for Copy on Write refcounting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ir Inod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 a page map for directory pages in server RVM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outines for retrieving and storing DH’s in DI’s and vice versa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py routin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Guts of server directory data storag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Lookup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Lookup maps name to inode numb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Lookup must go from kernel to Venus through venus_lookup upcal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ostly lookup uses inode number computed from FID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oot directory of volume is assigned inode number of mount point by Venus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Readdi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eaddir needs a Unix file hande (directory handle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pon open of a directory Venus writes out a BSD formatted directory container fi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le contains only names, no inode numbers or types (POSIX says this is all we need)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04T14:33:16Z</dcterms:created>
  <dc:creator>braam</dc:creator>
  <dc:description/>
  <dc:language>en-US</dc:language>
  <cp:lastModifiedBy>braam</cp:lastModifiedBy>
  <cp:lastPrinted>1998-03-04T14:49:58Z</cp:lastPrinted>
  <dcterms:modified xsi:type="dcterms:W3CDTF">1998-03-04T18:47:22Z</dcterms:modified>
  <cp:revision>1</cp:revision>
  <dc:subject/>
  <dc:title>Coda Directory Handling</dc:title>
</cp:coreProperties>
</file>