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898120" cy="6555240"/>
          </a:xfrm>
          <a:custGeom>
            <a:avLst/>
            <a:gdLst/>
            <a:ahLst/>
            <a:rect l="0" t="0" r="r" b="b"/>
            <a:pathLst>
              <a:path w="24717" h="18209">
                <a:moveTo>
                  <a:pt x="24717" y="9424"/>
                </a:moveTo>
                <a:lnTo>
                  <a:pt x="15293" y="0"/>
                </a:lnTo>
                <a:lnTo>
                  <a:pt x="13591" y="0"/>
                </a:lnTo>
                <a:lnTo>
                  <a:pt x="23870" y="10271"/>
                </a:lnTo>
                <a:lnTo>
                  <a:pt x="23553" y="10593"/>
                </a:lnTo>
                <a:lnTo>
                  <a:pt x="12961" y="0"/>
                </a:lnTo>
                <a:lnTo>
                  <a:pt x="9569" y="0"/>
                </a:lnTo>
                <a:lnTo>
                  <a:pt x="21859" y="12286"/>
                </a:lnTo>
                <a:lnTo>
                  <a:pt x="19897" y="14245"/>
                </a:lnTo>
                <a:lnTo>
                  <a:pt x="5662" y="0"/>
                </a:lnTo>
                <a:lnTo>
                  <a:pt x="3752" y="0"/>
                </a:lnTo>
                <a:lnTo>
                  <a:pt x="18945" y="15193"/>
                </a:lnTo>
                <a:lnTo>
                  <a:pt x="18151" y="15991"/>
                </a:lnTo>
                <a:lnTo>
                  <a:pt x="2165" y="0"/>
                </a:lnTo>
                <a:lnTo>
                  <a:pt x="0" y="0"/>
                </a:lnTo>
                <a:lnTo>
                  <a:pt x="0" y="2275"/>
                </a:lnTo>
                <a:lnTo>
                  <a:pt x="15928" y="18209"/>
                </a:lnTo>
                <a:lnTo>
                  <a:pt x="24717" y="9424"/>
                </a:lnTo>
                <a:close/>
              </a:path>
            </a:pathLst>
          </a:custGeom>
          <a:gradFill rotWithShape="0">
            <a:gsLst>
              <a:gs pos="0">
                <a:srgbClr val="6786e1"/>
              </a:gs>
              <a:gs pos="100000">
                <a:srgbClr val="b3c2f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2160" y="6486480"/>
            <a:ext cx="15890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am@cs.cmu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4165560" y="6486480"/>
            <a:ext cx="8128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/25/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8693280" y="6486480"/>
            <a:ext cx="3589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ED41AC90-E418-4B70-BCB5-8352342BF4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forcing 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uthenticated connection is established Srv attaches the CPS to the ClientEntry it 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_XX_Semantics compare ACL’s against CPS and give yes/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little bugs: keys not nulled out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back connection not 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userid to Vice should be transla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the heck is a “pcf” fi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adding users all but a disas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s for improving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m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moose doesn’t work like in AFS. It clears the existing tok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: re-integration, hoarding and disconnection make token handling more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 adds “moose” access in addition to  existing ti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da set ACL’s to achieve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F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find username, and pdb record in constant time from uid, log time from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betically sorted list of null terminated user/group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s of offsets of strings, pdb records etc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Users/ 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wd2pdb is a hack to get the ball ro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 now has a pts server to modify the .pdb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“au” can modify the password file not the pdb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ed: a pdb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 server must remain super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pdb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b is interpreted by lex to get the CP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: precompute the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b’s can become very large, so can pcf file which is held in server vm: not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n modification of pdb, Srv must be notified to refetch the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 and secure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Control and Protection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emulation on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Connections in RPC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routine can be passed and encryption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types of connections can be establish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Kimono: not authenticated, no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nly: authenticated no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sOnly: authenticated, headers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: authenticated and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ham Schroeder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828800"/>
            <a:ext cx="77724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p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&amp; server share a secret (session or handshake key) for encryption/de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ful decryption of packets with this secret established ident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is: secure authenticated connections can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: How to get shared secre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Coda has Needham-Schroeder 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95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2 Exchange at bind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3880" y="3097080"/>
            <a:ext cx="8571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135920" y="3097080"/>
            <a:ext cx="9255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54080" y="1878120"/>
            <a:ext cx="2838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Id, E[Xr, HK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2438280"/>
            <a:ext cx="5305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154480" y="1260360"/>
            <a:ext cx="27273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KC: handshak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r,Yr: random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A,K] A encrypted with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514520" y="3429000"/>
            <a:ext cx="512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402000" y="2944800"/>
            <a:ext cx="2536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(Xr+1,Yr),HK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39720" y="4572000"/>
            <a:ext cx="5153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514520" y="5791320"/>
            <a:ext cx="512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06720" y="4011480"/>
            <a:ext cx="1935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Yr+1,HCK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02000" y="5307120"/>
            <a:ext cx="23065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(SK,n0), HK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840280" y="4765680"/>
            <a:ext cx="29811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: session key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encryption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0: random number for 1st p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60020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imate goal: Venus and Vice share sec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&amp; auth2 server share a secret if user knows his password =&gt; secure conn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words are stored encrypted on server (“dreuss “) to avoid “acciden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2 returns ticket to clog, clog gives it to Venus (using pioctl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us re-establishes all connections with Sr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v shares the auth2.tk key with auth2: it can decrypt the ticket which Venus can s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tick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447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cket = (clear token, secret tok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tokens contain: (session key, viceid, timestamps for validit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token for client: unencrypted (must be sent securely e.g. by auth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 token: encrypted with secret shared by auth2/Srv (the key in auth2.tk). Can be sent unencrypted over the 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secret token as clientid, then Client and server share a secr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b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2193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stage rock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Ticket Granting Ticket (TGT), using ki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hange TGT for ticket for a service ticket with the Ticket Granting Server (T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 could easily use Kerb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ime of first connection, Venus fetches a ticket from TGS for Srv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 with Kerberos 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out how TGS and Srv can share a secret, probably /etc/srv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s, users, membership &amp; ownership relations: in “vice.pdb”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L granting rights to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: current protection subdomain (CPS): CPS of a user/group is set of all groups to which she belongs directly or indirectly (can be precomputed from .pd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Peter Braam</cp:lastModifiedBy>
  <cp:revision>0</cp:revision>
  <dc:subject/>
  <dc:title>Coda Security</dc:title>
</cp:coreProperties>
</file>