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58300"/>
        <c:axId val="23459160"/>
      </c:barChart>
      <c:catAx>
        <c:axId val="12458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59160"/>
        <c:crosses val="autoZero"/>
        <c:auto val="1"/>
        <c:lblAlgn val="ctr"/>
        <c:lblOffset val="100"/>
        <c:noMultiLvlLbl val="0"/>
      </c:catAx>
      <c:valAx>
        <c:axId val="23459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8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001-9312-430B-B02A-29324D7D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4D3-EC98-47A3-8203-59DD7CD3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5F7-5322-4A3F-B3A8-18D9CBCA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3EE-8D17-40D1-BDA7-954DDEC4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2B6-B264-4339-B4D1-2AA24558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657-78B2-4E70-9AFD-E53BA084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94D-E56A-4F98-BE12-D444E407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3BC-32CB-4F0D-9CE1-6A317937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F0F-F80B-4D89-8C23-C073BAC2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47D-09A0-4839-9FC4-52CCA0B5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048-21E8-480E-84BD-09BB9BCA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F85-620D-4F06-958F-D0932CB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994D7-450F-434C-913F-26F2F08FBC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