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133753"/>
        <c:axId val="30215664"/>
      </c:barChart>
      <c:catAx>
        <c:axId val="441337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215664"/>
        <c:crosses val="autoZero"/>
        <c:auto val="1"/>
        <c:lblAlgn val="ctr"/>
        <c:lblOffset val="100"/>
        <c:noMultiLvlLbl val="0"/>
      </c:catAx>
      <c:valAx>
        <c:axId val="302156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1337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9A4C-9FF9-4E31-A1CD-E7862266D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EBFC-10E9-4EF5-976C-2E04B0C9E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6C86-57EB-456F-8B2E-22D092801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4599-868F-469F-902B-B12DBD802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CF70-403F-4BA4-89AA-C2904D2DC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D067-2E37-4649-91DD-D73B8504D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2963-C695-482B-9E50-769E4B7BC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DE20-7D6B-4699-8DFC-086D47410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24DB-0B06-4B13-ACC0-A72DF98F7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FFDA-BB8D-453A-BC74-6FDB974D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F849-28A5-40A3-B925-63F123A6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C9C2-8AA4-4B43-849B-D8B66287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DF47DC-06C8-414A-B6A9-B1A5E53742A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