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ADF7-0173-44A0-9F2E-C2C1AC78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ECA9-FB58-48A4-B515-9996877C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91143-962B-4BC0-BA51-5CFE5FF4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A3F31-9DA4-45DF-ABDB-1951E727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CD83F-C889-4B56-9BEA-7ACB67AD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6AFA7-715A-4DBA-8DB3-03A23EDC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F59CD-FDB1-49B4-837C-1F7F01F1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057FC-E005-4D63-B235-1C6CCF4C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E6472-45B1-4476-9385-4A82D06E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631B0-79BB-4F1F-B01D-87E0573D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E5448-2905-410C-9BCF-B8E870EC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DAAAC5-1867-43BF-A343-FAC69771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01C2-DF61-41F5-8858-05AB2D42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8F22C8-DCA2-4203-BBD0-8D34943A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9A184C-2F13-48A6-8847-57EC5FFA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9FB6DA-D994-4947-82EB-F9A14419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689719-D180-4570-865A-2DC747D2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F0461A-D249-418E-820C-8CFA6DEB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989933-6523-4887-9482-79245E09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B5A1A8-55D9-451C-9CC7-E1280BA3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1792BD-136F-4B20-AE01-5D36A606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6B2E70-1560-4ADE-AF10-C713A155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DFCA48-394F-4569-9B6B-E09778BE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9486-67EB-4A2D-AADB-6D571358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0BED9E-0148-4543-B20A-56D4B199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7403D-62D4-4F54-A8F8-2B220D11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8FE2A-993E-4D33-AC13-291B418A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194A5-9A02-48EB-A33D-381EE737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F3331-892F-4F57-A827-11A3ADB7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85DE5-950D-4D26-91B2-6305602F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FC0E4-A1CC-4F0C-A75D-86B567E7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5FB7C-BB33-4966-9B6F-B967CA3F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61CF6-9C7E-49D5-90DB-ADD1225E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53F72-83B1-4295-A85A-A28D5AE4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1C1E-BE99-4F47-8AC0-72290F99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DE420-312A-4815-BDCE-494E250D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ACC96-68C4-4CB8-8D40-627D2EEA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83585-7649-455B-8116-D35576CF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9E924-D4A0-4879-AF10-CF796725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C17A8-51AD-4E0F-8A46-FA9203E8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5D3E3-D43F-4014-B92C-2D0BD536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AF5A6-986F-4299-9AF1-5E310E8E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6A51C-148B-45C1-B8DC-44E9E5D6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68842-08DD-48AB-9576-A47571FC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8CE71-19C2-4ED9-9C2B-FE882D39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0ECF-B47B-42E0-AAF9-3658C98F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3F8C3-5FFC-487F-9EB8-8AFCBE23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E2515-3D68-4CA4-B171-782779C9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AAC36-2783-4530-A81C-12675164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36B8B-4063-4599-9DAB-AD009235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2FE7C-9A2B-4F44-9F43-92375C87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1B9F-81BE-49AC-B45B-13459981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5D45-4DDB-4A1B-BF26-A567C3AB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D5BB-29C5-4D5F-A445-E8FD52CC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0A8F-2919-44ED-814A-04BD3F58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0C0B-0555-45B4-B42C-09F12AC6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DBD-7504-482A-8585-680C90E5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EC85-8DCC-44B8-9256-48A74315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74DD-7398-4FA9-8066-1207A646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C606-E0B6-4563-87DA-E9EF856D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3F4E-FDFB-42AE-AB30-F2758ACC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81EF-AF55-4665-A4D9-F177BC10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F99D6-0A05-499B-A335-3C02845F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4A1CF-50D1-4676-AA24-F18D1C57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0503B-E4E8-4AA7-8ED6-826A5DE9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F0C58-F9F5-4855-B802-95704AF6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E0310-99E2-4913-ACB3-717601FC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C21C-23E2-4D6B-A36A-53750A31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E5823-CA31-4A6C-B4D4-778CBAE1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4E6BD-5164-482C-B04D-34230EF1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73B9C-3D70-4217-B421-63749BAF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6ED90-A11D-4EAF-9797-212A8CAB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CE133-7462-4E9C-AB26-CA5ED4D6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1815A-1827-4C46-8157-2AA254EF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46202-9D6F-4218-BFFB-42445F70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60CA6-159C-4100-911E-50E7BA70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1844F-C569-4F93-AB84-CB627ADC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15EFA-E22C-4AC9-90AE-DDFA2A2D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119C-306B-41C3-AD20-41CF8C7E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1D565-287C-45F6-9B8D-C15538F5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70BCB-338A-4DB8-AF44-E788C8A5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F2918-F252-46AA-87EB-612C4628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0C35E-77C7-4D7B-92AD-2D94F1EE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FDFE1-E2CF-435B-BE7D-E2144463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AF604-3E18-4831-9B11-46132055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DED45-8B60-458E-8DE6-E69EA7DE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862EF-2B60-4A5C-8EB1-596C8BB5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2E436-0EE3-4347-92DA-EDF2BC3F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5193E2-8BEA-46A9-B8CC-844C721C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FB6-8DDB-406B-8549-65B9BDD4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A210E1-9BFD-4E9C-B7C6-33353D45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E0673A-1902-49EF-97E6-5DF1F8B2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811586-E415-42EC-914F-8ADBEF32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7D13E3-052E-48F7-88DC-C434780B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FD99A-7746-44F9-A666-5FB3ECA8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96DEA3-67CD-411C-A17A-C4A9266D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BDF01F-DAEA-4DC1-BD79-2CBB5128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2A28E2-C2E6-4BA2-8EE2-B6EA1F69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5C689C-F2AE-4556-89D3-2531BCE2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C599B-3659-48A9-8D04-B78773F3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9D5-AC47-404C-980F-8FFCDAB0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68E89E-2971-4F9D-94AD-C5BD9013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E89F8-5D10-424D-85A4-6DB4178D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1F154-8802-4615-A89F-14D6C656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1F8F3-31A7-4343-83E4-E843C56B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DFAFC-F2D1-48D3-826B-0133B1F5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E9FCF-78D5-4EAA-B680-C3DE8849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5E6F3-8DF9-466C-B42E-1067BF4F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84344-8F0F-4140-98A2-EEED242D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AE158-5CD5-490B-B911-007891E6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58590-1C22-4221-8D37-69059AB8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631-B55D-4DC6-80B9-2ADB3B5B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08DFD-8EDA-4628-A7E1-2DDD55F1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AA841-959E-453F-AC35-51E0788A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1568A-A5C7-4D10-AF58-5403547D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5DE71-414C-4166-B61C-955EE585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F977F-A6AB-4E52-AE4F-EBDD0E2A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2D7A2-FCFD-4B7B-B512-B7487294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86FE5-F29A-4AC2-B587-5EF128D9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CFB58-C068-45A4-AAE8-C7062716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BC433-D04C-44B4-A840-A8A884F0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30389-F3FD-45C4-B458-B3B42A7F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EE03-2EA1-446C-893D-262F69A5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D6DA2-7114-40F2-9AEE-CAF9FB48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8D4FC-0854-45E8-8AF8-A746B627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16EDB-6A42-4A76-86C1-A4AAF1F5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5E417-4058-4E31-88BC-0A5B0620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94CD2-0F97-43AD-AC80-F00176F6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692C9-9598-428F-BC04-655440E4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60328-F50F-4637-A288-A2B6C88B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A75D5-2507-4B2D-9401-9DC19EB6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B64F4-F92D-48FA-AA51-B6A50A10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405D0-FD51-400B-B41A-C65EE21D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937-6260-4793-AD44-C849D106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4C54F-BFCE-46CB-9DDC-F7FF5F7F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1F6E8-C989-40B7-B199-C034B0FB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E34CA-3CA6-468F-9E7C-E709C1C1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613B6-BDD4-4D72-B21A-88283348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64355-6E5C-41CE-BEDE-AF1A2F3D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F54F0-7B09-458B-B9E1-F7D97942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B2D50-92BD-49CD-99B6-BFF0CD5B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B2D8A-EB38-4190-B1EE-4FF23FFF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672DD-CCE0-4A90-8D69-2C904C51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BE2F7-21A0-4F19-A356-290827A1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E523-DB39-47B0-B95E-65B123047F1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340F-6A76-4472-BD91-EBD4ACF41B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1FB5-321D-4207-BDCB-E66B8B708DD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65F1-4047-462C-B3A1-AE93E747A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6498-BB1D-42BA-8FE3-D082A1D1F0D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BB7A-B74B-485C-BA82-006E8FC40BC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FBED-C377-4E58-ABAC-91D6BBA0EEE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25D3-67CD-4943-8CC6-86548A254D7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C8A0-E650-4D67-B5EE-7EBDB63C0BB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AE06-7494-4EA6-83E6-B1441B78F6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7B40-D208-4FC8-A214-062C308A810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9C47-812C-47B9-A96C-75A90E36B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5994-F11E-4C8F-8B5F-078C0F6D93D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2E86-37F9-4697-A465-B3A0D404D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E881-15EC-4469-8715-851BD2F4514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00EC-B504-45CB-A6AA-CD10AE6C531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DE13-026A-4565-95C6-A778E727DFA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7A42-6BD1-4077-8F05-412E219DD62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AAB3-5AC3-4738-8CB0-1AC2B05489D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0C9C-408A-49AC-8391-2AF8B234F3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4B18-B384-4421-A143-291F360A5CB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0003-12B1-4E17-954A-0292AC5D271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A3D5-4754-46EF-9A86-6F4DA76809A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541F-3124-4F27-A2BD-8735C5C6B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2744-5B1D-4187-A214-49E32CD2C8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C478A-8111-42E2-B35E-8A53ABDA3665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2047D-4F96-49D0-AB72-BD259C14FA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368956C-34C2-4A25-86C6-8651C688E387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8ABC8-3EAD-43DF-93AA-955AB4E4169B}" type="slidenum">
              <a:t>3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E6796E-CB0C-4143-9B77-AACEA078195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1F90745-031E-401D-A76C-2CB19DD4AE16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D6B38-4135-4AFE-A602-E538C199A1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0F6E8EAA-1D91-4F87-B212-F31A445D3E37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55BFC-81CD-4C6A-AD6D-909B27FB58E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AEAC2910-3B26-4D5B-834F-1F257C0FAFA8}" type="datetime1">
              <a:rPr lang="en-US"/>
              <a:t>07/31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