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EC79-D6CA-45AA-9A2C-4219F3B6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4FF0-7A27-416B-97A9-0F7F1BF7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FD0C-3762-4D65-9AD7-0447AE3F0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B2D8-9F38-4328-AE34-2C081113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870-D152-41A4-90EC-E3E64E4D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78E0-032D-464E-8E5B-A96CBF11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5197-8A9B-411A-B324-553F4935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CCA-0060-4CB4-813E-10D72573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8BD6-D6B3-41CC-AA2A-7E71B32A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E719-B8B9-49D7-9A32-6A7892B5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E089-A119-4523-AA7A-B5784DD7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575-8DA7-451C-8AA6-4393A1A3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6906-D6B8-4DA4-B101-CD1696E5F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This is a ClamAV test file with embedded clam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27000" cy="8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6:23:50Z</dcterms:created>
  <dc:creator>    </dc:creator>
  <dc:description/>
  <dc:language>en-US</dc:language>
  <cp:lastModifiedBy>    </cp:lastModifiedBy>
  <dcterms:modified xsi:type="dcterms:W3CDTF">2008-06-03T16:26:29Z</dcterms:modified>
  <cp:revision>1</cp:revision>
  <dc:subject/>
  <dc:title>This is a ClamAV test file with embedded clam.exe</dc:title>
</cp:coreProperties>
</file>