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A034-52A6-4933-98FC-E1A9A514F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B2C7-6F1A-40B3-8F8A-DB2071E50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0595-7AE3-4EFB-8DC4-2709CA2E3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94EB-79B0-4DF5-BDB7-DE0ACB4F3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E1E2-74A0-41D9-92A5-737F309F8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11FB-3588-44C9-A0E4-4560E0189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EB39-C160-4446-A742-E7F2A2933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43C3-1C5F-4CD9-9386-C5B04DA37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4E7D-6D39-4D1D-859F-809989080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B0C6-202A-4DA2-8791-C7CF3206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1F9E-5DC8-490B-A185-C62378B9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E137-DE09-4B61-A029-67556074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C5AB8-C757-4217-9F86-703F6515B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joe@mistachkin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ssil: Reloa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Tcl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I use T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since Fossil does not currently service the Tcl Event Loop, us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wa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almost certainly be requ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cl from Foss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cl integration has been enabled at compile-time and runtime (via the “tcl” setting), it can be used anywhere it is legal to use TH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ccomplished using several new TH1 commands, name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ll defined in the source fil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_tcl.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cl brid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H1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an be used anywhere TH1 is leg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cl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x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for accessing Fossil / TH1-specific functionality from a Tcl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“Enhanced Default” sk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TclVersion {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[catch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Eval info patch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tclVersion] == 0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"&lt;a href=\"http://www.tcl.tk/\"&gt;Tcl&lt;/a&gt; version $tclVersio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tclVersion [getTclVersio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anced” Examp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from the test suit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: This may be unsafe due to the possibility of multiple copies of the SQLite library in the process (e.g. on Linux).  Also, please do NOT write to the Fossi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clInvoke set repository_name [repository 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userCount [tclEva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ckage require sqlit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qlite3 db $repository_name -readonly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x [db eval {SELECT COUNT(*) FROM user;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c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$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 Dangerous Enoug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Hooks: Enables a TH1 (optionally with Tcl) script to be evaluated just prior to [and/or just after] any Fossil command or web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fine or log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pre-processing and/or post-processing for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line arguments to the command can be seen by the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H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hoo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Hook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inside “.fossil-settings/th1-setup” file inside of a test reposi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 command_hook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{$::cmd_name eq "timeline"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$::cmd_args\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"Tcl [tclEval {info patchlevel}]\n\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ill Need More Dang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Docs: Enables TH1 scripts to be evaluated when a “th1” file is viewed as embedded docum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bled by default at compile-time and run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NING: This option should only be enabled on a repository where all users with check-in privileges are “implicitly trusted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Do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100% sure that you want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do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provides built-in scripting capabilities for Fossil; however, it is a small subset of “full”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as a significant demand for advanced features that could be easily scripted if full Tcl was available (e.g. email notifications for check-i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Doc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is is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.th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in the root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sitory checkout, it could be vi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UR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://localhost:8080/doc/ckout/example.t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nitialize 5; # enable Tcl, if configu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 "Tcl 2 ** 2 == [tclEval {expr 2 ** 2}]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/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w “fileStat.th1”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more complete example of how to make use of TH1 Docs and Tcl integ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e Mistachkin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oe@mistachki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ace TH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 It was decided very early on that replacing TH1 would be too much of a break with backwards compati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a dual-language solution was developed that involves seamless bi-directional “bridging” of TH1 and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with Tcl 8.4 or higher.  Supported on all platforms where dynamic loading is avai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, the new “private stubs” mechanism should be used (created by Jan Nijtma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Linux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a Fossil source check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utomatic detection of Tcl library wor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stub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wise, something like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vate Stub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low Fossil to be compiled with Tcl integration support without needing to locate an actual Tcl (or stubs) library at compile-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ed Compile O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configure Fossil to use the in-tree zlib, enable OpenSSL and JSON, and enable Tcl integ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zlib=compat/zlib --with-openssl=auto --json=1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Window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MSVC is recommen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“buildmsvc.bat” tool from a Fossil source checkout is recommended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d w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uildmsvc.bat fossil.exe FOSSIL_ENABLE_TCL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at, it built, now w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have a Fossil binary with Tcl integration enabled, there is [at least] one more step to be able to evaluate Tcl from within Fossil, which is to enable the “tcl” setting using a command similar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ssil settings tc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n be set per-repository or globally.  It is disabled by defa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1T22:16:42Z</dcterms:created>
  <dc:creator>Joe Mistachkin</dc:creator>
  <dc:description/>
  <dc:language>en-US</dc:language>
  <cp:lastModifiedBy>Joe Mistachkin</cp:lastModifiedBy>
  <dcterms:modified xsi:type="dcterms:W3CDTF">2014-10-11T23:33:53Z</dcterms:modified>
  <cp:revision>74</cp:revision>
  <dc:subject/>
  <dc:title>Fossil</dc:title>
</cp:coreProperties>
</file>