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E5B2-D0A6-4458-BDEA-AFABCF2CA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2057-5B0E-4038-B103-5C278F093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F98E-38CD-4A65-BA70-242B2B348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9F27-F502-4783-A95A-0CEF7C1A1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DAA28-03F5-403B-A70A-B997F3A17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80760-7B50-4D88-8F2C-C845B1978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DB1C8-2627-4B85-9204-A21EA7D51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24E9B-9A13-4B9F-9465-988D668BE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94458-FBF2-4553-AB89-483668001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8EE96-378E-48C0-8760-EF04EF140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DB445-2F69-4F5D-8F47-2A6EADA11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E532-57D0-4542-9FF7-BBD094CF5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226B1-A617-4529-80D7-A2892D091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AB3ED-5314-4F29-AEA2-7FEB2CB0A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2AD7B-0CED-475F-AC07-6D42053BF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E993E-9892-483F-A4B1-F5B3AD585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AD92F-9B49-496B-AC1C-B15FEF38C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6E92-EBDF-4831-96AE-1C94EE2EE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86F5-CE40-4876-BED9-BEF5CBA11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EDD2-EC61-40D3-8E63-DD342ACEA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8E60-F80E-4CE7-A5E0-3C46C4E70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3F11-DE05-4319-BA4D-AB12B1DBC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F59B-86B6-4EE4-8A79-85B9095B2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0540-F71C-4B6E-BFA7-DEDBE6229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15ACD-EF2E-4073-A6B5-9FCB4B3433D9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56835-990D-4C71-B3F5-61A3523DBA59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5400" y="1920600"/>
            <a:ext cx="82263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Pulling Out All the Stop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3200040"/>
            <a:ext cx="6400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pplication of Tcl user extensions in a high performance multi-threaded electronic design applic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by Phil Brooks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uilt-in Script 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267080" y="1599840"/>
            <a:ext cx="373536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eaeaea"/>
                </a:solidFill>
                <a:uFillTx/>
                <a:latin typeface="Arial"/>
              </a:rPr>
              <a:t>Byte Code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ADD   temp3  perim_co(S,G)  perim_in(S,G)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ADD   temp2  temp3  perim_co(D,G)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ADD   temp1  temp2  perim_in(D,G)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UL   w  0.5  temp1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DIV   l  area(G)  w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NE    bends(G)  0 [31] [70]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GT    w  l [37] [55]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UL   temp2  0.5  bends(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UL   temp1  temp2  l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SUB   w  w  temp1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GOTO [70]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UL   temp2  0.5  bends(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UL   temp1  temp2  w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SUB   l  l  temp1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HALT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08040" y="1751040"/>
            <a:ext cx="3735360" cy="44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eaeaea"/>
                </a:solidFill>
                <a:uFillTx/>
                <a:latin typeface="Arial"/>
              </a:rPr>
              <a:t>Variable Name</a:t>
            </a:r>
            <a:r>
              <a:rPr b="1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n-US" sz="1400" spc="-1" strike="noStrike" u="sng">
                <a:solidFill>
                  <a:srgbClr val="eaeaea"/>
                </a:solidFill>
                <a:uFillTx/>
                <a:latin typeface="Arial"/>
              </a:rPr>
              <a:t>Value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w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0.0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l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0.0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temp1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0.0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temp2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0.0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temp3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0.0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perim_co(S,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4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perim_in(S,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6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perim_co(D,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4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perim_in(D,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6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area(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12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bends(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2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567240" y="3314880"/>
            <a:ext cx="1895400" cy="1347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254320" y="3789360"/>
            <a:ext cx="2568600" cy="885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8320" y="2286000"/>
            <a:ext cx="958680" cy="2101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450040" y="4205160"/>
            <a:ext cx="536400" cy="455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244600" y="3808440"/>
            <a:ext cx="0" cy="8413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255760" y="3794040"/>
            <a:ext cx="13129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 flipV="1">
            <a:off x="3569760" y="3322800"/>
            <a:ext cx="3240" cy="4744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243160" y="4665600"/>
            <a:ext cx="37321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581280" y="3325680"/>
            <a:ext cx="10591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648320" y="2303640"/>
            <a:ext cx="0" cy="10220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648320" y="2297160"/>
            <a:ext cx="95256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600880" y="2297160"/>
            <a:ext cx="0" cy="18968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275000" y="2708280"/>
            <a:ext cx="1622520" cy="236520"/>
          </a:xfrm>
          <a:prstGeom prst="rect">
            <a:avLst/>
          </a:prstGeom>
          <a:solidFill>
            <a:srgbClr val="ff99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09880" y="3013200"/>
            <a:ext cx="235080" cy="1966680"/>
          </a:xfrm>
          <a:prstGeom prst="rect">
            <a:avLst/>
          </a:prstGeom>
          <a:solidFill>
            <a:srgbClr val="ff99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841480" y="3435480"/>
            <a:ext cx="235080" cy="1539720"/>
          </a:xfrm>
          <a:prstGeom prst="rect">
            <a:avLst/>
          </a:prstGeom>
          <a:solidFill>
            <a:srgbClr val="ff99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313000" y="4167360"/>
            <a:ext cx="566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A1,P1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259080" y="4167360"/>
            <a:ext cx="566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A2,P2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944960" y="3986280"/>
            <a:ext cx="567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A4,P4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853160" y="2430360"/>
            <a:ext cx="566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A3,P3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809800" y="5132520"/>
            <a:ext cx="333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L1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773520" y="5586480"/>
            <a:ext cx="34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L2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464160" y="2687760"/>
            <a:ext cx="333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L3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840040" y="5032440"/>
            <a:ext cx="0" cy="376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73320" y="5032440"/>
            <a:ext cx="1800" cy="3715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840040" y="513396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816360" y="560376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345360" y="269712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54720" y="292752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6443640" y="2700360"/>
            <a:ext cx="0" cy="21744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4154400" y="3338640"/>
            <a:ext cx="0" cy="131256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2766960" y="3798720"/>
            <a:ext cx="0" cy="85248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656240" y="3051000"/>
            <a:ext cx="934920" cy="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541600" y="3952800"/>
            <a:ext cx="41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1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091040" y="3894120"/>
            <a:ext cx="41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2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935600" y="3051000"/>
            <a:ext cx="41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3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2398680" y="3962520"/>
            <a:ext cx="167400" cy="185400"/>
            <a:chOff x="2398680" y="3962520"/>
            <a:chExt cx="167400" cy="185400"/>
          </a:xfrm>
        </p:grpSpPr>
        <p:sp>
          <p:nvSpPr>
            <p:cNvPr id="271" name=""/>
            <p:cNvSpPr/>
            <p:nvPr/>
          </p:nvSpPr>
          <p:spPr>
            <a:xfrm>
              <a:off x="2398680" y="3962520"/>
              <a:ext cx="16560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>
              <a:off x="2404080" y="3969000"/>
              <a:ext cx="15948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398680" y="3967920"/>
              <a:ext cx="16740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3452760" y="3922560"/>
            <a:ext cx="167400" cy="185400"/>
            <a:chOff x="3452760" y="3922560"/>
            <a:chExt cx="167400" cy="185400"/>
          </a:xfrm>
        </p:grpSpPr>
        <p:sp>
          <p:nvSpPr>
            <p:cNvPr id="275" name=""/>
            <p:cNvSpPr/>
            <p:nvPr/>
          </p:nvSpPr>
          <p:spPr>
            <a:xfrm>
              <a:off x="3452760" y="3922560"/>
              <a:ext cx="16560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>
              <a:off x="3458160" y="3929040"/>
              <a:ext cx="15948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452760" y="3927960"/>
              <a:ext cx="16740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2873520" y="4761000"/>
            <a:ext cx="167760" cy="185400"/>
            <a:chOff x="2873520" y="4761000"/>
            <a:chExt cx="167760" cy="185400"/>
          </a:xfrm>
        </p:grpSpPr>
        <p:sp>
          <p:nvSpPr>
            <p:cNvPr id="279" name=""/>
            <p:cNvSpPr/>
            <p:nvPr/>
          </p:nvSpPr>
          <p:spPr>
            <a:xfrm>
              <a:off x="2873520" y="4761000"/>
              <a:ext cx="16524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2879280" y="4767480"/>
              <a:ext cx="15912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874240" y="4766400"/>
              <a:ext cx="16704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4929120" y="3571920"/>
            <a:ext cx="167400" cy="185400"/>
            <a:chOff x="4929120" y="3571920"/>
            <a:chExt cx="167400" cy="185400"/>
          </a:xfrm>
        </p:grpSpPr>
        <p:sp>
          <p:nvSpPr>
            <p:cNvPr id="283" name=""/>
            <p:cNvSpPr/>
            <p:nvPr/>
          </p:nvSpPr>
          <p:spPr>
            <a:xfrm>
              <a:off x="4929120" y="3571920"/>
              <a:ext cx="16560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4934520" y="3578400"/>
              <a:ext cx="15948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929120" y="3577320"/>
              <a:ext cx="16740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3848040" y="4761000"/>
            <a:ext cx="167400" cy="185400"/>
            <a:chOff x="3848040" y="4761000"/>
            <a:chExt cx="167400" cy="185400"/>
          </a:xfrm>
        </p:grpSpPr>
        <p:sp>
          <p:nvSpPr>
            <p:cNvPr id="287" name=""/>
            <p:cNvSpPr/>
            <p:nvPr/>
          </p:nvSpPr>
          <p:spPr>
            <a:xfrm>
              <a:off x="3848040" y="4761000"/>
              <a:ext cx="16560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3853440" y="4767480"/>
              <a:ext cx="15948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848040" y="4766400"/>
              <a:ext cx="16740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335480" y="2733840"/>
            <a:ext cx="167760" cy="185040"/>
            <a:chOff x="4335480" y="2733840"/>
            <a:chExt cx="167760" cy="185040"/>
          </a:xfrm>
        </p:grpSpPr>
        <p:sp>
          <p:nvSpPr>
            <p:cNvPr id="291" name=""/>
            <p:cNvSpPr/>
            <p:nvPr/>
          </p:nvSpPr>
          <p:spPr>
            <a:xfrm>
              <a:off x="4335480" y="2733840"/>
              <a:ext cx="165240" cy="1796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4341240" y="2740320"/>
              <a:ext cx="159120" cy="17316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336200" y="2739240"/>
              <a:ext cx="167040" cy="17964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5364000" y="2398680"/>
            <a:ext cx="167400" cy="185400"/>
            <a:chOff x="5364000" y="2398680"/>
            <a:chExt cx="167400" cy="185400"/>
          </a:xfrm>
        </p:grpSpPr>
        <p:sp>
          <p:nvSpPr>
            <p:cNvPr id="295" name=""/>
            <p:cNvSpPr/>
            <p:nvPr/>
          </p:nvSpPr>
          <p:spPr>
            <a:xfrm>
              <a:off x="5364000" y="2398680"/>
              <a:ext cx="16560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5369400" y="2405160"/>
              <a:ext cx="15948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364000" y="2404080"/>
              <a:ext cx="16740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2252520" y="4954680"/>
            <a:ext cx="0" cy="8395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254320" y="5127480"/>
            <a:ext cx="58428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3089160" y="5133960"/>
            <a:ext cx="2463840" cy="648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471920" y="5041800"/>
            <a:ext cx="42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2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386080" y="511020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1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68360" y="5600880"/>
            <a:ext cx="156060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814920" y="5459400"/>
            <a:ext cx="1440" cy="2919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051440" y="5457960"/>
            <a:ext cx="1440" cy="2919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067280" y="5516640"/>
            <a:ext cx="152064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587920" y="4878360"/>
            <a:ext cx="0" cy="8398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851200" y="558180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3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772160" y="540396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4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6450120" y="2300040"/>
            <a:ext cx="0" cy="39852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775480" y="2308320"/>
            <a:ext cx="7966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6450120" y="2916000"/>
            <a:ext cx="0" cy="173988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386400" y="2389320"/>
            <a:ext cx="42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5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402240" y="3675240"/>
            <a:ext cx="42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6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589200" y="3179880"/>
            <a:ext cx="228600" cy="144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3580920" y="3067200"/>
            <a:ext cx="1800" cy="1648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502080" y="287820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3’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4521240" y="3327120"/>
            <a:ext cx="0" cy="46044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456080" y="378288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4521240" y="3774960"/>
            <a:ext cx="0" cy="44928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525920" y="3903840"/>
            <a:ext cx="44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2’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497480" y="3395520"/>
            <a:ext cx="517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2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335640" y="464652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602320" y="4202280"/>
            <a:ext cx="38736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989680" y="4208400"/>
            <a:ext cx="0" cy="457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456080" y="422100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4521240" y="4232160"/>
            <a:ext cx="0" cy="44928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525920" y="4351320"/>
            <a:ext cx="52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2’”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3244680" y="3774960"/>
            <a:ext cx="0" cy="44928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170160" y="422100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087720" y="3871800"/>
            <a:ext cx="517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1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3244680" y="4222800"/>
            <a:ext cx="0" cy="44928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173400" y="4338720"/>
            <a:ext cx="51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1’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089160" y="5324400"/>
            <a:ext cx="288288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969160" y="4875120"/>
            <a:ext cx="6120" cy="8431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249800" y="521352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2”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064040" y="5681520"/>
            <a:ext cx="191772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24440" y="555624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4”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aching the Limits of Built-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133720" y="15238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nclosure Function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aching the Limits of Built-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mplex measuremen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 simple number represent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ummation capability requir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aching the Limits of Built-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DEVICE MP PGATE PGATE(G) SD(S) SD(D) DIFF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[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roperty W, L, SEFF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0.5 * ( perim_co(S,G) +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erim_in(S,G) + perim_co(D,G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+ perim_in(D,G) 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L = area(G) /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( bends(G) != 0 )) 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W &gt; L 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W - 0.5 * bends(G) * 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lse L = L - 0.5 * bends(G) *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 = ENC_PER (PGATE, DIFF, SD, 25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EFFA = W /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SUM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(S::W / (S::A + 0.5*L) ) - 0.5*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aching the Limits of Built-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um functionality satisfied specific requiremen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on a more general solution was need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in/max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rbitrary calculations on array elemen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 more complex measurement arra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ecff"/>
              </a:buClr>
              <a:buSzPct val="11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Multi Finger Enclosure measurement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cripting Language Requirement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5400" y="1598400"/>
            <a:ext cx="8226360" cy="47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scribe data collection prior to execu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ilt-in language data retrieval function configures data collection algorithm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verage existing Built-in script engin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ustomers have extensive existing usag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ilt-in engine has 31 data collection routin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Get data collected to the scri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Get calculated results back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Overall Performance can’t slow down too much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y Tcl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alibre already has Tcl interfaces inside our geometric manipulation languag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ow Tcl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dd a function interface to the Built-in language – TVF_NUMERIC_FUNCTION 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(TVF_NUM_FUN for short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ows calling a Tcl Function from within the Built-in languag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ow Tcl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5400" y="1371600"/>
            <a:ext cx="8226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DEVICE MP PGATE PGATE(G) SD(S) SD(D) DIFF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[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roperty W, L, SEFF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0.5 * ( perim_co(S,G) +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erim_in(S,G) + perim_co(D,G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+ perim_in(D,G) 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L = area(G) /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( bends(G) != 0 )) 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W &gt; L 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W - 0.5 * bends(G) * 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lse L = L - 0.5 * bends(G) *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 = ENC_PER (PGATE, DIFF, SD, 25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EFFA = TVF_NUM_FUN (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"calc_eff_a"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"device_func ", S, W, 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ow Tcl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TVF FUNCTION device_func [/*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roc calc_eff_a { enc W L } 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... tcl code ..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*/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Calibre Design Verification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tegrated Circuit Desig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5427720" y="1295280"/>
            <a:ext cx="3716280" cy="487692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457200" y="2895480"/>
            <a:ext cx="8226360" cy="10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ometric Analysis Too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Requirements Check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scribe data collection before script run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xisting built-in script engine still provides the data collection function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Leverage existing script engine and customer script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Add Tcl calls to Existing built-in script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Get data collected to Tc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Function call argument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Get data calculations back to Calibr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Return values of Tcl functions called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181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Overall Performance goa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Performance Testing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est Circuits: Emphasize scripting language performance (not a real world test case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500,000 devices that run through the calculation script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3 Builtin-&gt;Tcl calls for each device (1.5 million total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10 Tcl-&gt;Calibre object callbacks (5 million total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Realistic Device Calculation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Partitions into 18 equal partitions for Multi-Threaded executio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Can be expressed as Tcl function or Built-In SUM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fficiently Calling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What call interface to choose: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cl_Eva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cl_EvalEx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cl_EvalObjEx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cl_EvalObjv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fficiently Calling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1676520" y="1371600"/>
            <a:ext cx="5790960" cy="49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fficiently Calling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1676520" y="1295280"/>
            <a:ext cx="5943600" cy="50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fficiently Calling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1752480" y="1219320"/>
            <a:ext cx="5943600" cy="50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fficiently Calling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Use of Tcl_EvalObjEx didn’t differ significantly from Tcl_EvalObjv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rgument Handl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t up as much as possible before executio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Data passed through objects (Tcl_CreateObjCommand) to avoid construction of argument object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Getting Back to C++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ata is passed back through a Tcl_DoubleObj set as the “result”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cl handles the result objects efficientl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Writing Efficient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eware the use of expr without {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hanging expr { ... } to expr ..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reduced performance by 300%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Writing Efficient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nsider object interfaces that do the bookkeeping operations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et slice_count [ $enc slice_count 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for { set i 0 } { $i&lt;$slice_count } { incr i } 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# slice specific code here uses index $i to access dat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# from the $enc command object by passing it in as an argument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ayout vs. Schematic (LVS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chematic – logical design of a circui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ayout – physical design of a circui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VS makes sure Layout and Schematic designs describe the same circuit by comparing th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Writing Efficient Tcl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Consider this interface where the $enc object performs index calculation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set i [ $enc first_slice ]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while { $i &gt; 0 }  {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# slice specific code here index is implicit $enc will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# access data from the current array slice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set i [ $enc next_slice ]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Or, if you want to get fancy: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$rtval = $enc eval 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# some sort of code that executes once for each slice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Writing Efficient Tcl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1295280" y="1219320"/>
            <a:ext cx="594360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Threads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ata is partitioned for parallel execut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Each thread recognizes devices independently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Each thread runs its own copy of the built-in language engin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ow do threads perform with Tcl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etter to use MT Tcl or Single Threaded Tcl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Thread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84" name="" descr=""/>
          <p:cNvPicPr/>
          <p:nvPr/>
        </p:nvPicPr>
        <p:blipFill>
          <a:blip r:embed="rId1"/>
          <a:stretch/>
        </p:blipFill>
        <p:spPr>
          <a:xfrm>
            <a:off x="1752480" y="1447920"/>
            <a:ext cx="5791320" cy="43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Final Performance Number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al chips showed no increase in required CPU time for Device Recogni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evice Recogni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vice Recognition allows the user to turn geometric shapes from the layout into logical device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2971800" y="3352680"/>
            <a:ext cx="3124080" cy="23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959120" y="0"/>
            <a:ext cx="522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uilt-in Script 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Very Simpl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Very High Performanc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Built-in Script 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yte compiled interpreted user progra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gram configures data collection before execution star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Very limited capabiliti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no loops, no alloc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just data collection, arithmetic, and conditional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uilt-in Script 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ta and temporary variables are pre-allocat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yte code runs for each device that is recogniz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456840" y="1294920"/>
            <a:ext cx="7924680" cy="52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 fontScale="99000"/>
          </a:bodyPr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DEVICE MP PGATE PGATE(G) SD(S) SD(D) DIFF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[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roperty w, 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0.5 * ( perim_co( S, G 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 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+ perim_in( S, G 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+ perim_co( D, G 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+ perim_in( D, G ) 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l = area( G ) /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( bends( G ) != 0 )) 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w &gt; l 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w – 0.5 * bends( G ) * 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lse l = l – 0.5 * bends( G ) *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uilt-in Script 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4T15:11:59Z</dcterms:created>
  <dc:creator>Phil Brooks</dc:creator>
  <dc:description/>
  <dc:language>en-US</dc:language>
  <cp:lastModifiedBy>Phil Brooks</cp:lastModifiedBy>
  <dcterms:modified xsi:type="dcterms:W3CDTF">2005-10-27T00:10:55Z</dcterms:modified>
  <cp:revision>4</cp:revision>
  <dc:subject/>
  <dc:title>Pulling Out All the Stops</dc:title>
</cp:coreProperties>
</file>