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3020-B7BC-42EE-A4BC-2BF44A8A1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1F26-19C6-49C8-A23C-BD508EE7E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6ED9-A485-4135-8252-8E7213CB7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70E3-626F-44F9-80D8-CA0F475BE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02EFC-D08B-43EE-99A7-CFDEF77BF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C2565-A76A-4331-90F7-E1F2A599E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47630-293E-455C-A597-3C39EA306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2DDDD-33A8-428A-B71E-2F564ABD7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1B5D8-7CE0-4693-9C1F-7B9DEF22E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7D2C1-C670-425E-9065-E980535C5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30609-AA83-4FD7-BACF-80AF612B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152F-05EB-4239-A2CD-ADDA2B838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D7BCB-28DE-4966-B3A4-137CFAA9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C3FE3-6EA2-474D-959B-720AD177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136BA-B78E-47B9-9C70-43793B1E4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4D859-899D-4A2E-BBA7-E6A2F1F4B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B93D9-2A09-49B2-A826-C4EB59F98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641E-4094-4689-A304-9C6941653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8B04-D3B5-4F85-A0AC-8CFDFBA42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79D3-F2E1-43DA-9D1B-C3755FED9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BB19-223A-4820-ADF3-0935FAFB9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684D-BB4E-4843-BBD2-124C7585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71C3-F3A4-4BEC-B4AD-33190A70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A2DF-2C0E-45CF-A995-7A50F511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8F03B-8F63-4ADA-A7F2-4235715A3673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7A933-3C25-4A88-9B3B-64D0B4F0315E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600"/>
            <a:ext cx="82263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ulling Out All the Stop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pplication of Tcl user extensions in a high performance multi-threaded electronic design applic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y Phil Brook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267080" y="1599840"/>
            <a:ext cx="3735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Byte Cod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3  perim_co(S,G)  perim_in(S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2  temp3  perim_co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1  temp2  perim_in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w  0.5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DIV   l  area(G)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NE    bends(G)  0 [31]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T    w  l [37] [55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w  w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OTO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l  l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HALT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8040" y="1751040"/>
            <a:ext cx="373536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riable Name</a:t>
            </a: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lu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3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rea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1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567240" y="3314880"/>
            <a:ext cx="1895400" cy="134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54320" y="3789360"/>
            <a:ext cx="2568600" cy="885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8320" y="2286000"/>
            <a:ext cx="958680" cy="2101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50040" y="4205160"/>
            <a:ext cx="536400" cy="455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44600" y="3808440"/>
            <a:ext cx="0" cy="841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55760" y="3794040"/>
            <a:ext cx="1312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3569760" y="3322800"/>
            <a:ext cx="3240" cy="4744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43160" y="4665600"/>
            <a:ext cx="3732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3325680"/>
            <a:ext cx="1059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48320" y="2303640"/>
            <a:ext cx="0" cy="10220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48320" y="2297160"/>
            <a:ext cx="9525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600880" y="2297160"/>
            <a:ext cx="0" cy="18968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75000" y="2708280"/>
            <a:ext cx="1622520" cy="2365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09880" y="3013200"/>
            <a:ext cx="235080" cy="196668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841480" y="3435480"/>
            <a:ext cx="235080" cy="15397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1300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1,P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5908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2,P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44960" y="3986280"/>
            <a:ext cx="56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4,P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853160" y="2430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3,P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09800" y="513252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773520" y="5586480"/>
            <a:ext cx="34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464160" y="268776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40040" y="5032440"/>
            <a:ext cx="0" cy="376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73320" y="5032440"/>
            <a:ext cx="1800" cy="371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840040" y="51339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16360" y="56037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45360" y="26971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54720" y="2927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6443640" y="2700360"/>
            <a:ext cx="0" cy="217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154400" y="3338640"/>
            <a:ext cx="0" cy="131256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766960" y="3798720"/>
            <a:ext cx="0" cy="8524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56240" y="3051000"/>
            <a:ext cx="93492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41600" y="39528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091040" y="389412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35600" y="30510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398680" y="3962520"/>
            <a:ext cx="167400" cy="185400"/>
            <a:chOff x="2398680" y="3962520"/>
            <a:chExt cx="167400" cy="185400"/>
          </a:xfrm>
        </p:grpSpPr>
        <p:sp>
          <p:nvSpPr>
            <p:cNvPr id="271" name=""/>
            <p:cNvSpPr/>
            <p:nvPr/>
          </p:nvSpPr>
          <p:spPr>
            <a:xfrm>
              <a:off x="2398680" y="39625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2404080" y="39690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98680" y="39679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3452760" y="3922560"/>
            <a:ext cx="167400" cy="185400"/>
            <a:chOff x="3452760" y="3922560"/>
            <a:chExt cx="167400" cy="185400"/>
          </a:xfrm>
        </p:grpSpPr>
        <p:sp>
          <p:nvSpPr>
            <p:cNvPr id="275" name=""/>
            <p:cNvSpPr/>
            <p:nvPr/>
          </p:nvSpPr>
          <p:spPr>
            <a:xfrm>
              <a:off x="3452760" y="392256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3458160" y="392904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52760" y="392796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2873520" y="4761000"/>
            <a:ext cx="167760" cy="185400"/>
            <a:chOff x="2873520" y="4761000"/>
            <a:chExt cx="167760" cy="185400"/>
          </a:xfrm>
        </p:grpSpPr>
        <p:sp>
          <p:nvSpPr>
            <p:cNvPr id="279" name=""/>
            <p:cNvSpPr/>
            <p:nvPr/>
          </p:nvSpPr>
          <p:spPr>
            <a:xfrm>
              <a:off x="2873520" y="4761000"/>
              <a:ext cx="16524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2879280" y="4767480"/>
              <a:ext cx="15912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74240" y="4766400"/>
              <a:ext cx="16704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929120" y="3571920"/>
            <a:ext cx="167400" cy="185400"/>
            <a:chOff x="4929120" y="3571920"/>
            <a:chExt cx="167400" cy="185400"/>
          </a:xfrm>
        </p:grpSpPr>
        <p:sp>
          <p:nvSpPr>
            <p:cNvPr id="283" name=""/>
            <p:cNvSpPr/>
            <p:nvPr/>
          </p:nvSpPr>
          <p:spPr>
            <a:xfrm>
              <a:off x="4929120" y="35719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4934520" y="35784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929120" y="35773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3848040" y="4761000"/>
            <a:ext cx="167400" cy="185400"/>
            <a:chOff x="3848040" y="4761000"/>
            <a:chExt cx="167400" cy="185400"/>
          </a:xfrm>
        </p:grpSpPr>
        <p:sp>
          <p:nvSpPr>
            <p:cNvPr id="287" name=""/>
            <p:cNvSpPr/>
            <p:nvPr/>
          </p:nvSpPr>
          <p:spPr>
            <a:xfrm>
              <a:off x="3848040" y="476100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3853440" y="476748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48040" y="476640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335480" y="2733840"/>
            <a:ext cx="167760" cy="185040"/>
            <a:chOff x="4335480" y="2733840"/>
            <a:chExt cx="167760" cy="185040"/>
          </a:xfrm>
        </p:grpSpPr>
        <p:sp>
          <p:nvSpPr>
            <p:cNvPr id="291" name=""/>
            <p:cNvSpPr/>
            <p:nvPr/>
          </p:nvSpPr>
          <p:spPr>
            <a:xfrm>
              <a:off x="4335480" y="2733840"/>
              <a:ext cx="165240" cy="1796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4341240" y="2740320"/>
              <a:ext cx="159120" cy="1731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36200" y="2739240"/>
              <a:ext cx="167040" cy="17964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5364000" y="2398680"/>
            <a:ext cx="167400" cy="185400"/>
            <a:chOff x="5364000" y="2398680"/>
            <a:chExt cx="167400" cy="185400"/>
          </a:xfrm>
        </p:grpSpPr>
        <p:sp>
          <p:nvSpPr>
            <p:cNvPr id="295" name=""/>
            <p:cNvSpPr/>
            <p:nvPr/>
          </p:nvSpPr>
          <p:spPr>
            <a:xfrm>
              <a:off x="5364000" y="239868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5369400" y="240516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64000" y="240408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2252520" y="4954680"/>
            <a:ext cx="0" cy="839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254320" y="5127480"/>
            <a:ext cx="5842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089160" y="5133960"/>
            <a:ext cx="2463840" cy="64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471920" y="504180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386080" y="5110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68360" y="5600880"/>
            <a:ext cx="156060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14920" y="545940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051440" y="545796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067280" y="5516640"/>
            <a:ext cx="15206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587920" y="4878360"/>
            <a:ext cx="0" cy="839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851200" y="55818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772160" y="540396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6450120" y="2300040"/>
            <a:ext cx="0" cy="39852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775480" y="2308320"/>
            <a:ext cx="7966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450120" y="2916000"/>
            <a:ext cx="0" cy="17398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386400" y="238932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5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02240" y="367524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89200" y="3179880"/>
            <a:ext cx="228600" cy="144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3580920" y="3067200"/>
            <a:ext cx="1800" cy="164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02080" y="2878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4521240" y="3327120"/>
            <a:ext cx="0" cy="460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56080" y="378288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52124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525920" y="3903840"/>
            <a:ext cx="44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97480" y="339552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335640" y="4646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602320" y="4202280"/>
            <a:ext cx="387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989680" y="420840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5608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4521240" y="42321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25920" y="4351320"/>
            <a:ext cx="5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324468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17016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087720" y="387180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244680" y="422280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173400" y="4338720"/>
            <a:ext cx="51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089160" y="5324400"/>
            <a:ext cx="28828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969160" y="4875120"/>
            <a:ext cx="6120" cy="843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249800" y="521352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064040" y="5681520"/>
            <a:ext cx="191772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24440" y="555624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133720" y="1523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nclosure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mplex measu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 simple number represent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mation capability requir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W /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UM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S::W / (S::A + 0.5*L) ) - 0.5*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 functionality satisfied specific requi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on a more general solution was need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in/max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rbitrary calculations on array elemen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more complex measurement arra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ulti Finger Enclosure measuremen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cripting Language Requireme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22636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scribe data collection prior to execu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language data retrieval function configures data collection algorithm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verage existing Built-in script eng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ustomers have extensive existing usa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engine has 31 data collection routin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data collected to the scri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calculated results bac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verall Performance can’t slow down too mu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alibre already has Tcl interfaces inside our geometric manipulatio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d a function interface to the Built-in language – TVF_NUMERIC_FUNCTION 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TVF_NUM_FUN for short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ows calling a Tcl Function from within the Built-i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5400" y="1371600"/>
            <a:ext cx="8226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TVF_NUM_FUN (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calc_eff_a"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device_func ", S,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VF FUNCTION device_func [/*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c calc_eff_a { enc W L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... tcl code ..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*/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alibre Design Verificat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tegrated Circuit Desig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427720" y="1295280"/>
            <a:ext cx="3716280" cy="48769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57200" y="2895480"/>
            <a:ext cx="822636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ometric Analysis Too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quirements Check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scribe data collection before script ru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xisting built-in script engine still provides the data collection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everage existing script engine and customer scrip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Add Tcl calls to Existing built-in scrip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ollected to Tc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unction call argumen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alculations back to Calibr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Return values of Tcl functions calle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181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verall Performance go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erformance Testing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est Circuits: Emphasize scripting language performance (not a real world test cas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500,000 devices that run through the calculation scrip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3 Builtin-&gt;Tcl calls for each device (1.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10 Tcl-&gt;Calibre object callbacks (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alistic Device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artitions into 18 equal partitions for Multi-Threaded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an be expressed as Tcl function or Built-In SU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at call interface to choose: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v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79096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94360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e of Tcl_EvalObjEx didn’t differ significantly from Tcl_EvalObjv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rgument Handl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t up as much as possible before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ata passed through objects (Tcl_CreateObjCommand) to avoid construction of argument object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Getting Back to C++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ssed back through a Tcl_DoubleObj set as the “result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cl handles the result objects efficientl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ware the use of expr without {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hanging expr { ... } to expr ..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duced performance by 300%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nsider object interfaces that do the bookkeeping operations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t slice_count [ $enc slice_count 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or { set i 0 } { $i&lt;$slice_count } { incr i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lice specific code here uses index $i to access da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from the $enc command object by passing it in as an argumen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yout vs. Schematic (LVS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chematic – log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ayout – phys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VS makes sure Layout and Schematic designs describe the same circuit by comparing th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onsider this interface where the $enc object performs index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firs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while { $i &gt; 0 }  {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slice specific code here index is implicit $enc will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access data from the current array slice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nex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r, if you want to get fancy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$rtval = $enc eval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ome sort of code that executes once for each slic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594360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rtitioned for parallel execu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ecognizes devices independentl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uns its own copy of the built-in language engin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w do threads perform with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tter to use MT Tcl or Single Threaded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79132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Final Performance Number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al chips showed no increase in required CPU time for Device Recogni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vice Recogni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vice Recognition allows the user to turn geometric shapes from the layout into logical device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3124080" cy="23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959120" y="0"/>
            <a:ext cx="522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Simp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High Performan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mpiled interpreted user progra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gram configures data collection before execution star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limited capabiliti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 loops, no alloc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ust data collection, arithmetic, and conditiona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ta and temporary variables are pre-alloca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de runs for each device that is recogniz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79246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 S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S, G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co( D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D, G 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 G 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 G 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– 0.5 * bends( G 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– 0.5 * bends( G 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5:11:59Z</dcterms:created>
  <dc:creator>Phil Brooks</dc:creator>
  <dc:description/>
  <dc:language>en-US</dc:language>
  <cp:lastModifiedBy>Phil Brooks</cp:lastModifiedBy>
  <dcterms:modified xsi:type="dcterms:W3CDTF">2005-10-27T00:10:55Z</dcterms:modified>
  <cp:revision>4</cp:revision>
  <dc:subject/>
  <dc:title>Pulling Out All the Stops</dc:title>
</cp:coreProperties>
</file>