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7E65-EEFA-47B0-BA4B-E1E37E6D97A7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765F-8BCE-4DCD-9EAE-8F5C3CDC07FC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5D89-4E45-454F-AB9D-92FC8FAB62AA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C946-B0F0-4391-8E86-CA159C49B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A5FB-2F32-49CF-8371-5BBC5314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F30792-3414-430A-9670-E984E98B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63088B-DBC9-4A19-A940-A977931B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1DDB1F-45B2-4EB4-8C05-2B0D7D5A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62A7D7-ED4B-40E7-B511-23F7AB3F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D202C9-A46F-48EA-B944-4C640968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BAAA4C-8098-4BED-9208-8089C1FF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7B6596-748E-444C-9876-5A6E3E5A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1A7DE8-E073-474E-9F7D-3A8A314F7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E1837D-156B-45F5-80D5-862447C94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181ABE-B853-4E3C-8956-B10EBE2CE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1F3C-9C0D-48C8-970B-37FC2FDAB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487D01-C22F-41A5-80C9-CF16C9DB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3B63CC-D904-4517-8AB2-2133BD16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B3B734-42D8-40D1-A350-26B7001F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43DFB5-A5BC-4E01-BDBB-F513B56F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523EC9-2B03-4C4F-A971-2158E594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9806E9-D90D-40E9-B3E3-6771CA93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D4898F-1AC9-4040-A8B3-121B8C6E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A5F487-F37F-465D-97E3-3C91AB0C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49C94F-3590-4FA7-88CB-3ED4EE88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A55C69-3CF4-4C9B-B08E-78F108C29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0AEC-A570-48AD-8075-705EE367A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9AD402-9ABE-4DB5-9CD2-2D8135FCB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64728AD-A1D0-4AD8-AFB2-FF284D397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D47B56F-249C-476C-9D5E-61DCAF30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7F4CD13-6921-4B08-8779-6BBDDD18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8F91D81-FBA6-4DAC-B747-3A7F2E72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97DB4C6-0613-4DE1-845A-8774962E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218729A-32B6-45AF-9FA7-54104193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2C9E3A2-ADC0-48BC-9CCE-8977F075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13C1E7F-B8CD-4C81-B0B0-714CC6C4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CC8D861-C715-4AFD-A2D5-C8DDE872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7551B7-E72D-4E6F-A038-73B05E93B9C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5F99F5E-9329-41B6-95FD-806BF6C6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6EB77E8-D264-44B4-81FB-AC9141975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278C9E3-E69A-4736-BBFA-612C4B407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071832-8AD9-4891-AF83-026C56F9DB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01276-7266-4A58-907D-6075F3EC2A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81C59C-3D90-4005-A522-85CE1325C2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E14ECE-D862-4AB2-A813-3CBA565C2A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71717-FA79-4474-A13C-30CDC559F8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F50798-35C8-4FE7-BEB0-3C382787B2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F5FB-59AB-4A12-AEDD-4491A080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93A1B-E9D7-431E-B708-B0FFA96CE38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3D9B88-C9CA-4C95-A5CD-4779849A49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895A3F-1017-4EBC-94F1-8EBFE9452D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CDEF59-4A05-4691-BD85-206C54B552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8B4666-1961-49CE-BA42-1952D7B25BB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BEDB39-FE2C-468E-92AE-157A04C83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F7D3C8-09D0-44DF-A246-BAD67428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5C542C-AC9E-4928-A08A-8EE857DA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BAFE32-ADEE-4CF9-830E-44E86670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C525ED-A8A2-4CF0-95DF-2DE7F0F2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FCA6-30A9-456F-8120-83325DDF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AC7A84-169C-4194-9897-72E3D079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5D23E5-02AD-4681-88F7-01DABF15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A14A36-CDAE-494B-B797-E0136A66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3FABA1-9780-4D4D-89FF-19506ED4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51D57B-30A9-48BA-B1FE-96F9108C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7609BC-40AF-4C26-AB84-DC4DCDC3A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558EB4-E599-4E66-9D44-B9014E4A0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6144C1-B316-47AC-9CBC-778F687FD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25CF9D-E5E8-4257-9EF2-C48CC750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94E3F0-F801-4814-A8A7-4A372E5F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03EB-5A95-4777-BF1E-F0C106DB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F16F9D-580A-4AA9-B3D2-023C56E9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840188-F51F-4574-B04A-B2A55691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C4807A-990B-4296-9358-6F25FBE8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CF3E23-A933-43EB-92DD-87CF772A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2BED4A-3D9A-4930-B531-52F4FF5C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EDC4CD-E0AB-4E87-9683-3AA1AED1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0B1143-AB7A-48B1-BC50-095A2242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895F7D-6FB6-49BD-A0D1-93B5B82D0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039B56-AB3F-406A-BB34-6C32B6AD6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9D8DDB-A675-40A6-B000-C4F4E86DA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1B75-0B54-4200-98E5-BDE29BB0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C838BB-5153-41DC-B238-7C579F00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245A66-B9E1-4DA4-86CD-AF1C4636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0332B7-462E-4115-AF5D-6F31D1E6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92A73E-DC35-4187-ACAF-7731B354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022E5D-A420-4FCD-93FA-DF61ECE4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255788-B69B-480C-B984-B2ED4DB6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5938D0-5A20-4E62-99EF-94A6DE76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D32EAE-A2FD-4E8B-9BD2-DA6AD97C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F6B307-C678-4C2C-B424-961B0EC1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4C6D70-CFDE-4E68-A9A9-337DCDA80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E864-CFC0-4FDD-805D-49E5CABE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C01267-C903-421C-BC77-54A323C1D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D19587-A30E-44F1-A96C-1E07B7653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756A3A-BF16-4A20-8E12-E93CE945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78650D-508D-491C-8B56-3F6F8C51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E169A8-0962-49F6-95CD-746B4D59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B00E3D-330E-4F70-B85D-82A448881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4D2AF2-A174-44BC-953B-EB49DA5F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8591E7-AF2E-4515-9271-D73CCED3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FE50F6-CF18-4C68-9F1A-86E24901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B05587-96A4-4E7F-9DDF-7FB2AB75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C4D4-D057-4070-94E4-F107E12D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B4425A-ECFF-4AA1-9A93-10DB8DBA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A0D123-2523-4684-88D2-FA413EBCD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7E1E2A-AC42-44E8-8B79-1F20755B1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314B10-1EE9-44D5-AF80-668ECD5D4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D6CDB0-8B13-4D2C-8D2D-ED257F29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BB4A8A-46B6-4AD0-948D-0D7E04E4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25D0ED-D50C-4407-8AD2-20F4643F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ED4046-E33C-4515-9CE9-956A78A4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BA4821-63C4-4DC5-9FD8-5B4CDE4D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7D6F4E-5492-4ACD-8A87-71B7081D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6E77-6A88-4E1E-BD8A-401348D5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C298B7-A3F3-4BB2-BC19-F16C503F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770732-1ECA-4D51-AD72-F8A45253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0843D0-0412-473F-97BC-F9B8DDB2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D9DEC2-7B4B-4E00-9C3B-F79BFE8CE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31AB92-5723-4CD4-BFDB-BCB440EB9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958F5A-09D5-439C-B330-848365F6E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9E7439-BE9D-4486-B0B9-42AE3F82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82CC5A-A1A9-46C7-B5E0-36452528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F85F58-6454-40E7-9D4B-992C52BC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3796D1-79C3-46A5-B496-A1F653A9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61CC-CDB3-46BA-8662-E20CCEA5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78679A-E7D5-4B4F-8DA4-C7D0118C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EDD332-4BA9-48CD-B2B2-4FEA97F5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869403-D36E-4F45-8F59-61204AB4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DDD6E9-7638-4663-BF54-22694A76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E74B66-7493-47F5-9197-BCC15F1E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175786-48E0-458B-A25D-9AF7861E5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459016-8F79-4525-B200-51B18E6F2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7059B5-40A4-4638-9D9F-32CC3DAFE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707019-2032-437A-B250-C50836AB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47C91E-0AEE-4CBA-A02B-29E49B26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l-GR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ACF4-99F4-4DC3-BBF2-8C7E88C31D07}" type="slidenum">
              <a:rPr b="0" i="1" lang="el-GR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6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7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8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2854-6A77-469D-AF0C-8FD6CC3985B7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9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0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1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FF9A-785A-4D4A-B9EF-3AB2B9B93863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0"/>
          <p:cNvSpPr/>
          <p:nvPr/>
        </p:nvSpPr>
        <p:spPr>
          <a:xfrm flipH="1">
            <a:off x="304920" y="2362320"/>
            <a:ext cx="85341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4267080" y="2209680"/>
            <a:ext cx="0" cy="22100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" name="Line 12"/>
          <p:cNvSpPr/>
          <p:nvPr/>
        </p:nvSpPr>
        <p:spPr>
          <a:xfrm>
            <a:off x="539640" y="990720"/>
            <a:ext cx="0" cy="21333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" name="Rectangle 49"/>
          <p:cNvSpPr/>
          <p:nvPr/>
        </p:nvSpPr>
        <p:spPr>
          <a:xfrm>
            <a:off x="0" y="548640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" name="Text Box 51"/>
          <p:cNvSpPr/>
          <p:nvPr/>
        </p:nvSpPr>
        <p:spPr>
          <a:xfrm>
            <a:off x="2152800" y="5516640"/>
            <a:ext cx="551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nstitute of Informatic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&amp;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Telecommunication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–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NCSR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“Demokritos”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0" name="Picture 54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1025280" cy="1024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8305560" y="624816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E55D-43B5-40A1-8920-403705370AFF}" type="slidenum">
              <a:rPr b="0" i="1" lang="en-US" sz="14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6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7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7454-DF31-4692-9C1E-66B4BF051525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8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0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F813-E9CC-464E-A9AF-1C0B90B5EE7E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8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2102-7330-4970-896B-D01D1684D874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2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4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5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6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69F5-DE9C-48F8-B2CF-621AB446A329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7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7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8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9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29D4-A33C-4F78-AF31-572CF00FEFC3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1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0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1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2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3C29-AD80-4574-9D1F-7C86D39247F8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6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3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4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5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CFA7-B2D8-4C53-AAE9-C9F7B21D6194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0.png"/><Relationship Id="rId36" Type="http://schemas.openxmlformats.org/officeDocument/2006/relationships/image" Target="../media/image34.png"/><Relationship Id="rId37" Type="http://schemas.openxmlformats.org/officeDocument/2006/relationships/image" Target="../media/image35.png"/><Relationship Id="rId38" Type="http://schemas.openxmlformats.org/officeDocument/2006/relationships/image" Target="../media/image30.png"/><Relationship Id="rId39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iki.tcl.tk/21595#pagetoce30e53a1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llogon.org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4000" y="9907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Tcl and TclOO</a:t>
            </a:r>
            <a:br>
              <a:rPr sz="24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rom the perspective of a simple user</a:t>
            </a:r>
            <a:br>
              <a:rPr sz="2000"/>
            </a:b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266720" y="2437920"/>
            <a:ext cx="4876920" cy="26672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Georgios Petasi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Software and Knowledge Engineering Laboratory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Institute of Informatics and Telecommunications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National Centre for Scientific Research “Demokritos”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Athens, Greece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petasis@iit.demokritos.g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argely a manual (and time consuming) effor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helper Tcl script to perform “easy” substitution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everal months were need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, a few portions could not be por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clOO has some limitation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Or do I have a bad programming style?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ask is now largely finish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nd the helper Tcl script got quite complex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d what about other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about turning the conversion script into a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iTcl emulator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CC79-958D-4FE1-8210-B46BC0813E2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distance of a script that reformats code from an emulator is a simple “eval”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 have created a small package that emulat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630 lines of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gnores less essential features (like protection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goal is to get my applications runnin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2395-9C14-444E-96B2-4CC5E6620DB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58" name="Picture 2" descr="C:\Users\George\Pictures\Editor-myItcl.png"/>
          <p:cNvPicPr/>
          <p:nvPr/>
        </p:nvPicPr>
        <p:blipFill>
          <a:blip r:embed="rId1"/>
          <a:stretch/>
        </p:blipFill>
        <p:spPr>
          <a:xfrm>
            <a:off x="457200" y="914400"/>
            <a:ext cx="82962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quick and simple approach actu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st application executes further than latest iTcl 4.0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3.x object variable references (“@itcl …”) are converted to TclOO equival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t all code substitutions are perform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dding the “my” keyword to existing code is tricky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4 regular expressions are not enough to handle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 package that “parses” Tcl is not availabl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inally I gave up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regular expressions for some cas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8255-B9CA-4A0E-A18A-143F111224C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nfigure/cget on TclO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mmon variables across objects of the same clas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“static” class methods (methods that do not require an object to be called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erent semantics for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specific method in the classes hierarchy of an object cannot be called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requires the keyword “my” while calling methods from inside of a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B070-2504-432D-81AC-854D64B77E7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7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automatically exports methods that start with a lowercase lette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facility for “local” to procedures objects (like itcl::local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A225-97B5-4822-8AEC-97E1BB2A0F8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Similariti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981080" y="1295280"/>
          <a:ext cx="5181840" cy="25956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c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clO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$thi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[self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chain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nex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sco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varname 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nheri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super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oo::define 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  <p:sp>
        <p:nvSpPr>
          <p:cNvPr id="576" name="Content Placeholder 2"/>
          <p:cNvSpPr/>
          <p:nvPr/>
        </p:nvSpPr>
        <p:spPr>
          <a:xfrm>
            <a:off x="380880" y="4038480"/>
            <a:ext cx="8382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teresting features of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verything subclasses 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oo::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mixin”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unknown” on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The “my” keywor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7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07D1-05F1-4440-AFE1-B4F35706FB1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84CD-24E0-4773-9F45-647100BC0B0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se study: the Ellogon NLP platform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llogon is an infrastructure for natural language processing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ag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ually annotat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loading processing components, and apply them on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velopment started in 1998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think with Tcl/Tk 8.1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500.000 lines of C/C++/Tcl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lot of legacy code, especially in the GUI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widespread use of tile/ttk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OO (i.e. iTcl) in most parts of the cod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4EE4-8F22-4E15-AAB9-4AF29B58920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8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Architect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1" name="Group 3"/>
          <p:cNvGrpSpPr/>
          <p:nvPr/>
        </p:nvGrpSpPr>
        <p:grpSpPr>
          <a:xfrm>
            <a:off x="576360" y="1143000"/>
            <a:ext cx="7958160" cy="3995640"/>
            <a:chOff x="576360" y="1143000"/>
            <a:chExt cx="7958160" cy="3995640"/>
          </a:xfrm>
        </p:grpSpPr>
        <p:sp>
          <p:nvSpPr>
            <p:cNvPr id="592" name="AutoShape 4"/>
            <p:cNvSpPr/>
            <p:nvPr/>
          </p:nvSpPr>
          <p:spPr>
            <a:xfrm>
              <a:off x="576360" y="1143000"/>
              <a:ext cx="7958160" cy="399564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3" name="AutoShape 5"/>
            <p:cNvSpPr/>
            <p:nvPr/>
          </p:nvSpPr>
          <p:spPr>
            <a:xfrm>
              <a:off x="576360" y="1143000"/>
              <a:ext cx="7958160" cy="2872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4" name="Line 6"/>
            <p:cNvSpPr/>
            <p:nvPr/>
          </p:nvSpPr>
          <p:spPr>
            <a:xfrm>
              <a:off x="576360" y="1430280"/>
              <a:ext cx="7958160" cy="180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595" name="Group 7"/>
          <p:cNvGrpSpPr/>
          <p:nvPr/>
        </p:nvGrpSpPr>
        <p:grpSpPr>
          <a:xfrm>
            <a:off x="614520" y="1467000"/>
            <a:ext cx="2700360" cy="1763640"/>
            <a:chOff x="614520" y="1467000"/>
            <a:chExt cx="2700360" cy="1763640"/>
          </a:xfrm>
        </p:grpSpPr>
        <p:sp>
          <p:nvSpPr>
            <p:cNvPr id="596" name="AutoShape 8"/>
            <p:cNvSpPr/>
            <p:nvPr/>
          </p:nvSpPr>
          <p:spPr>
            <a:xfrm>
              <a:off x="671760" y="1509840"/>
              <a:ext cx="2460600" cy="164952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3f2f7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7" name="AutoShape 9"/>
            <p:cNvSpPr/>
            <p:nvPr/>
          </p:nvSpPr>
          <p:spPr>
            <a:xfrm>
              <a:off x="671760" y="1509840"/>
              <a:ext cx="2460600" cy="5986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>
              <a:off x="671760" y="2113200"/>
              <a:ext cx="246060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9" name="Text Box 11"/>
            <p:cNvSpPr/>
            <p:nvPr/>
          </p:nvSpPr>
          <p:spPr>
            <a:xfrm>
              <a:off x="671760" y="1467000"/>
              <a:ext cx="264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Language Processing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00" name="Picture 12" descr="execRed"/>
            <p:cNvPicPr/>
            <p:nvPr/>
          </p:nvPicPr>
          <p:blipFill>
            <a:blip r:embed="rId1"/>
            <a:stretch/>
          </p:blipFill>
          <p:spPr>
            <a:xfrm>
              <a:off x="614520" y="2009880"/>
              <a:ext cx="122076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13" descr="exec"/>
            <p:cNvPicPr/>
            <p:nvPr/>
          </p:nvPicPr>
          <p:blipFill>
            <a:blip r:embed="rId2"/>
            <a:stretch/>
          </p:blipFill>
          <p:spPr>
            <a:xfrm>
              <a:off x="1044720" y="201168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14" descr="execOrange"/>
            <p:cNvPicPr/>
            <p:nvPr/>
          </p:nvPicPr>
          <p:blipFill>
            <a:blip r:embed="rId3"/>
            <a:stretch/>
          </p:blipFill>
          <p:spPr>
            <a:xfrm>
              <a:off x="1511280" y="2005200"/>
              <a:ext cx="122580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15" descr="execGreen"/>
            <p:cNvPicPr/>
            <p:nvPr/>
          </p:nvPicPr>
          <p:blipFill>
            <a:blip r:embed="rId4"/>
            <a:stretch/>
          </p:blipFill>
          <p:spPr>
            <a:xfrm>
              <a:off x="1982880" y="2006640"/>
              <a:ext cx="1220760" cy="12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4" name="Group 16"/>
          <p:cNvGrpSpPr/>
          <p:nvPr/>
        </p:nvGrpSpPr>
        <p:grpSpPr>
          <a:xfrm>
            <a:off x="3768840" y="1467000"/>
            <a:ext cx="3000240" cy="1691640"/>
            <a:chOff x="3768840" y="1467000"/>
            <a:chExt cx="3000240" cy="1691640"/>
          </a:xfrm>
        </p:grpSpPr>
        <p:grpSp>
          <p:nvGrpSpPr>
            <p:cNvPr id="605" name="Group 17"/>
            <p:cNvGrpSpPr/>
            <p:nvPr/>
          </p:nvGrpSpPr>
          <p:grpSpPr>
            <a:xfrm>
              <a:off x="3768840" y="1467000"/>
              <a:ext cx="3000240" cy="1691640"/>
              <a:chOff x="3768840" y="1467000"/>
              <a:chExt cx="3000240" cy="1691640"/>
            </a:xfrm>
          </p:grpSpPr>
          <p:grpSp>
            <p:nvGrpSpPr>
              <p:cNvPr id="606" name="Group 18"/>
              <p:cNvGrpSpPr/>
              <p:nvPr/>
            </p:nvGrpSpPr>
            <p:grpSpPr>
              <a:xfrm>
                <a:off x="3768840" y="1467000"/>
                <a:ext cx="3000240" cy="1691640"/>
                <a:chOff x="3768840" y="1467000"/>
                <a:chExt cx="3000240" cy="1691640"/>
              </a:xfrm>
            </p:grpSpPr>
            <p:sp>
              <p:nvSpPr>
                <p:cNvPr id="607" name="AutoShape 19"/>
                <p:cNvSpPr/>
                <p:nvPr/>
              </p:nvSpPr>
              <p:spPr>
                <a:xfrm>
                  <a:off x="3768840" y="1509480"/>
                  <a:ext cx="3000240" cy="164916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3f2f7"/>
                    </a:gs>
                    <a:gs pos="100000">
                      <a:srgbClr val="fdfdfb">
                        <a:alpha val="0"/>
                      </a:srgbClr>
                    </a:gs>
                  </a:gsLst>
                  <a:lin ang="0"/>
                </a:gradFill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8" name="AutoShape 20"/>
                <p:cNvSpPr/>
                <p:nvPr/>
              </p:nvSpPr>
              <p:spPr>
                <a:xfrm>
                  <a:off x="3768840" y="1509480"/>
                  <a:ext cx="3000240" cy="28692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e8e6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9" name="Line 21"/>
                <p:cNvSpPr/>
                <p:nvPr/>
              </p:nvSpPr>
              <p:spPr>
                <a:xfrm>
                  <a:off x="3768840" y="1796760"/>
                  <a:ext cx="3000240" cy="1440"/>
                </a:xfrm>
                <a:prstGeom prst="line">
                  <a:avLst/>
                </a:prstGeom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10" name="Text Box 22"/>
                <p:cNvSpPr/>
                <p:nvPr/>
              </p:nvSpPr>
              <p:spPr>
                <a:xfrm>
                  <a:off x="3779640" y="1467000"/>
                  <a:ext cx="261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76889c"/>
                      </a:solidFill>
                      <a:latin typeface="Arial"/>
                    </a:rPr>
                    <a:t>Graphical Interface</a:t>
                  </a:r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</p:grpSp>
          <p:pic>
            <p:nvPicPr>
              <p:cNvPr id="611" name="Picture 23" descr="EllogonMainWindows"/>
              <p:cNvPicPr/>
              <p:nvPr/>
            </p:nvPicPr>
            <p:blipFill>
              <a:blip r:embed="rId5"/>
              <a:stretch/>
            </p:blipFill>
            <p:spPr>
              <a:xfrm>
                <a:off x="3852720" y="1836720"/>
                <a:ext cx="1533240" cy="111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Picture 24" descr="Ion2"/>
              <p:cNvPicPr/>
              <p:nvPr/>
            </p:nvPicPr>
            <p:blipFill>
              <a:blip r:embed="rId6"/>
              <a:stretch/>
            </p:blipFill>
            <p:spPr>
              <a:xfrm>
                <a:off x="4968720" y="1938240"/>
                <a:ext cx="1723680" cy="1110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3" name="Picture 25" descr="kappfinder"/>
            <p:cNvPicPr/>
            <p:nvPr/>
          </p:nvPicPr>
          <p:blipFill>
            <a:blip r:embed="rId7"/>
            <a:stretch/>
          </p:blipFill>
          <p:spPr>
            <a:xfrm>
              <a:off x="6200640" y="1477800"/>
              <a:ext cx="568080" cy="56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4" name="Group 26"/>
          <p:cNvGrpSpPr/>
          <p:nvPr/>
        </p:nvGrpSpPr>
        <p:grpSpPr>
          <a:xfrm>
            <a:off x="1300320" y="3209760"/>
            <a:ext cx="1040760" cy="489240"/>
            <a:chOff x="1300320" y="3209760"/>
            <a:chExt cx="1040760" cy="489240"/>
          </a:xfrm>
        </p:grpSpPr>
        <p:pic>
          <p:nvPicPr>
            <p:cNvPr id="615" name="Picture 27" descr="ArrowDown"/>
            <p:cNvPicPr/>
            <p:nvPr/>
          </p:nvPicPr>
          <p:blipFill>
            <a:blip r:embed="rId8"/>
            <a:stretch/>
          </p:blipFill>
          <p:spPr>
            <a:xfrm>
              <a:off x="130032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8" descr="ArrowDown"/>
            <p:cNvPicPr/>
            <p:nvPr/>
          </p:nvPicPr>
          <p:blipFill>
            <a:blip r:embed="rId9"/>
            <a:stretch/>
          </p:blipFill>
          <p:spPr>
            <a:xfrm>
              <a:off x="182376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Group 29"/>
          <p:cNvGrpSpPr/>
          <p:nvPr/>
        </p:nvGrpSpPr>
        <p:grpSpPr>
          <a:xfrm>
            <a:off x="4645080" y="3209760"/>
            <a:ext cx="1038240" cy="489240"/>
            <a:chOff x="4645080" y="3209760"/>
            <a:chExt cx="1038240" cy="489240"/>
          </a:xfrm>
        </p:grpSpPr>
        <p:pic>
          <p:nvPicPr>
            <p:cNvPr id="618" name="Picture 30" descr="ArrowDown"/>
            <p:cNvPicPr/>
            <p:nvPr/>
          </p:nvPicPr>
          <p:blipFill>
            <a:blip r:embed="rId10"/>
            <a:stretch/>
          </p:blipFill>
          <p:spPr>
            <a:xfrm>
              <a:off x="516600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31" descr="ArrowDown"/>
            <p:cNvPicPr/>
            <p:nvPr/>
          </p:nvPicPr>
          <p:blipFill>
            <a:blip r:embed="rId11"/>
            <a:stretch/>
          </p:blipFill>
          <p:spPr>
            <a:xfrm>
              <a:off x="4645080" y="3209760"/>
              <a:ext cx="51768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0" name="Group 32"/>
          <p:cNvGrpSpPr/>
          <p:nvPr/>
        </p:nvGrpSpPr>
        <p:grpSpPr>
          <a:xfrm>
            <a:off x="3200400" y="1790640"/>
            <a:ext cx="509760" cy="1057320"/>
            <a:chOff x="3200400" y="1790640"/>
            <a:chExt cx="509760" cy="1057320"/>
          </a:xfrm>
        </p:grpSpPr>
        <p:pic>
          <p:nvPicPr>
            <p:cNvPr id="621" name="Picture 33" descr="ArrowDown"/>
            <p:cNvPicPr/>
            <p:nvPr/>
          </p:nvPicPr>
          <p:blipFill>
            <a:blip r:embed="rId12"/>
            <a:stretch/>
          </p:blipFill>
          <p:spPr>
            <a:xfrm>
              <a:off x="3221280" y="1790640"/>
              <a:ext cx="4888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34" descr="ArrowDown"/>
            <p:cNvPicPr/>
            <p:nvPr/>
          </p:nvPicPr>
          <p:blipFill>
            <a:blip r:embed="rId13"/>
            <a:stretch/>
          </p:blipFill>
          <p:spPr>
            <a:xfrm>
              <a:off x="3200400" y="2330280"/>
              <a:ext cx="489240" cy="51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Group 44"/>
          <p:cNvGrpSpPr/>
          <p:nvPr/>
        </p:nvGrpSpPr>
        <p:grpSpPr>
          <a:xfrm>
            <a:off x="6769080" y="1509840"/>
            <a:ext cx="1657080" cy="3522600"/>
            <a:chOff x="6769080" y="1509840"/>
            <a:chExt cx="1657080" cy="3522600"/>
          </a:xfrm>
        </p:grpSpPr>
        <p:sp>
          <p:nvSpPr>
            <p:cNvPr id="624" name="AutoShape 45"/>
            <p:cNvSpPr/>
            <p:nvPr/>
          </p:nvSpPr>
          <p:spPr>
            <a:xfrm>
              <a:off x="6987960" y="1509840"/>
              <a:ext cx="1438200" cy="3522600"/>
            </a:xfrm>
            <a:custGeom>
              <a:avLst/>
              <a:gdLst>
                <a:gd name="textAreaLeft" fmla="*/ 7200 w 1438200"/>
                <a:gd name="textAreaRight" fmla="*/ 1431000 w 1438200"/>
                <a:gd name="textAreaTop" fmla="*/ 7200 h 3522600"/>
                <a:gd name="textAreaBottom" fmla="*/ 3515400 h 3522600"/>
              </a:gdLst>
              <a:ahLst/>
              <a:rect l="textAreaLeft" t="textAreaTop" r="textAreaRight" b="textAreaBottom"/>
              <a:pathLst>
                <a:path w="21600" h="52897">
                  <a:moveTo>
                    <a:pt x="379" y="0"/>
                  </a:moveTo>
                  <a:arcTo wR="379" hR="379" stAng="16200000" swAng="-5400000"/>
                  <a:lnTo>
                    <a:pt x="0" y="52518"/>
                  </a:lnTo>
                  <a:arcTo wR="379" hR="379" stAng="10800000" swAng="-5400000"/>
                  <a:lnTo>
                    <a:pt x="21221" y="52897"/>
                  </a:lnTo>
                  <a:arcTo wR="379" hR="379" stAng="5400000" swAng="-5400000"/>
                  <a:lnTo>
                    <a:pt x="21600" y="379"/>
                  </a:lnTo>
                  <a:arcTo wR="379" hR="379" stAng="0" swAng="-5400000"/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5" name="AutoShape 46"/>
            <p:cNvSpPr/>
            <p:nvPr/>
          </p:nvSpPr>
          <p:spPr>
            <a:xfrm>
              <a:off x="6991200" y="1514520"/>
              <a:ext cx="282600" cy="3516120"/>
            </a:xfrm>
            <a:custGeom>
              <a:avLst/>
              <a:gdLst>
                <a:gd name="textAreaLeft" fmla="*/ 8280 w 282600"/>
                <a:gd name="textAreaRight" fmla="*/ 274320 w 282600"/>
                <a:gd name="textAreaTop" fmla="*/ 8280 h 3516120"/>
                <a:gd name="textAreaBottom" fmla="*/ 3507840 h 3516120"/>
              </a:gdLst>
              <a:ahLst/>
              <a:rect l="textAreaLeft" t="textAreaTop" r="textAreaRight" b="textAreaBottom"/>
              <a:pathLst>
                <a:path w="21600" h="268434">
                  <a:moveTo>
                    <a:pt x="2184" y="0"/>
                  </a:moveTo>
                  <a:arcTo wR="2184" hR="2184" stAng="16200000" swAng="-5400000"/>
                  <a:lnTo>
                    <a:pt x="0" y="266250"/>
                  </a:lnTo>
                  <a:arcTo wR="2184" hR="2184" stAng="10800000" swAng="-5400000"/>
                  <a:lnTo>
                    <a:pt x="19416" y="268434"/>
                  </a:lnTo>
                  <a:arcTo wR="2184" hR="2184" stAng="5400000" swAng="-5400000"/>
                  <a:lnTo>
                    <a:pt x="21600" y="2184"/>
                  </a:lnTo>
                  <a:arcTo wR="2184" hR="218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6" name="Text Box 47"/>
            <p:cNvSpPr/>
            <p:nvPr/>
          </p:nvSpPr>
          <p:spPr>
            <a:xfrm flipV="1">
              <a:off x="6876720" y="2633760"/>
              <a:ext cx="454680" cy="22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7" name="Text Box 48"/>
            <p:cNvSpPr/>
            <p:nvPr/>
          </p:nvSpPr>
          <p:spPr>
            <a:xfrm>
              <a:off x="7273800" y="1509840"/>
              <a:ext cx="1152360" cy="33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00"/>
                  </a:solidFill>
                  <a:latin typeface="Arial"/>
                </a:rPr>
                <a:t>(HTTP, FTP, SOAP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Operating System 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cc"/>
                  </a:solidFill>
                  <a:latin typeface="Arial"/>
                </a:rPr>
                <a:t>(ActiveX, COM, DDE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9900"/>
                  </a:solidFill>
                  <a:latin typeface="Arial"/>
                </a:rPr>
                <a:t>Database </a:t>
              </a:r>
              <a:r>
                <a:rPr b="1" lang="en-US" sz="1400" spc="-1" strike="noStrike">
                  <a:solidFill>
                    <a:srgbClr val="cc9900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c9900"/>
                  </a:solidFill>
                  <a:latin typeface="Arial"/>
                </a:rPr>
                <a:t>(ODBC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6889c"/>
                  </a:solidFill>
                  <a:latin typeface="Arial"/>
                </a:rPr>
                <a:t>…</a:t>
              </a:r>
              <a:endParaRPr b="0" lang="en-US" sz="36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28" name="Picture 49" descr="ArrowDown"/>
            <p:cNvPicPr/>
            <p:nvPr/>
          </p:nvPicPr>
          <p:blipFill>
            <a:blip r:embed="rId15"/>
            <a:stretch/>
          </p:blipFill>
          <p:spPr>
            <a:xfrm>
              <a:off x="6802200" y="1971720"/>
              <a:ext cx="21924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50" descr="ArrowDown"/>
            <p:cNvPicPr/>
            <p:nvPr/>
          </p:nvPicPr>
          <p:blipFill>
            <a:blip r:embed="rId16"/>
            <a:stretch/>
          </p:blipFill>
          <p:spPr>
            <a:xfrm>
              <a:off x="6769080" y="2279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51" descr="ArrowDown"/>
            <p:cNvPicPr/>
            <p:nvPr/>
          </p:nvPicPr>
          <p:blipFill>
            <a:blip r:embed="rId17"/>
            <a:stretch/>
          </p:blipFill>
          <p:spPr>
            <a:xfrm>
              <a:off x="6789600" y="4511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52" descr="ArrowDown"/>
            <p:cNvPicPr/>
            <p:nvPr/>
          </p:nvPicPr>
          <p:blipFill>
            <a:blip r:embed="rId18"/>
            <a:stretch/>
          </p:blipFill>
          <p:spPr>
            <a:xfrm>
              <a:off x="6769080" y="4222800"/>
              <a:ext cx="218880" cy="2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2" name="Group 53"/>
          <p:cNvGrpSpPr/>
          <p:nvPr/>
        </p:nvGrpSpPr>
        <p:grpSpPr>
          <a:xfrm>
            <a:off x="576360" y="5403960"/>
            <a:ext cx="2738520" cy="887400"/>
            <a:chOff x="576360" y="5403960"/>
            <a:chExt cx="2738520" cy="887400"/>
          </a:xfrm>
        </p:grpSpPr>
        <p:sp>
          <p:nvSpPr>
            <p:cNvPr id="633" name="AutoShape 54"/>
            <p:cNvSpPr/>
            <p:nvPr/>
          </p:nvSpPr>
          <p:spPr>
            <a:xfrm>
              <a:off x="578160" y="5445000"/>
              <a:ext cx="2736720" cy="82260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4" name="AutoShape 55"/>
            <p:cNvSpPr/>
            <p:nvPr/>
          </p:nvSpPr>
          <p:spPr>
            <a:xfrm>
              <a:off x="576360" y="5446800"/>
              <a:ext cx="273852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5" name="AutoShape 56"/>
            <p:cNvSpPr/>
            <p:nvPr/>
          </p:nvSpPr>
          <p:spPr>
            <a:xfrm>
              <a:off x="578160" y="5446800"/>
              <a:ext cx="2736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6" name="Line 57"/>
            <p:cNvSpPr/>
            <p:nvPr/>
          </p:nvSpPr>
          <p:spPr>
            <a:xfrm>
              <a:off x="578160" y="5734080"/>
              <a:ext cx="27367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7" name="Text Box 58"/>
            <p:cNvSpPr/>
            <p:nvPr/>
          </p:nvSpPr>
          <p:spPr>
            <a:xfrm>
              <a:off x="576360" y="5403960"/>
              <a:ext cx="26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38" name="Picture 59" descr="penguin"/>
            <p:cNvPicPr/>
            <p:nvPr/>
          </p:nvPicPr>
          <p:blipFill>
            <a:blip r:embed="rId19"/>
            <a:stretch/>
          </p:blipFill>
          <p:spPr>
            <a:xfrm>
              <a:off x="2756160" y="5770440"/>
              <a:ext cx="48564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60" descr="Windows"/>
            <p:cNvPicPr/>
            <p:nvPr/>
          </p:nvPicPr>
          <p:blipFill>
            <a:blip r:embed="rId20"/>
            <a:stretch/>
          </p:blipFill>
          <p:spPr>
            <a:xfrm>
              <a:off x="2233800" y="5727600"/>
              <a:ext cx="52848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61" descr="folder3"/>
            <p:cNvPicPr/>
            <p:nvPr/>
          </p:nvPicPr>
          <p:blipFill>
            <a:blip r:embed="rId21"/>
            <a:stretch/>
          </p:blipFill>
          <p:spPr>
            <a:xfrm>
              <a:off x="61308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62" descr="folder3_green"/>
            <p:cNvPicPr/>
            <p:nvPr/>
          </p:nvPicPr>
          <p:blipFill>
            <a:blip r:embed="rId22"/>
            <a:stretch/>
          </p:blipFill>
          <p:spPr>
            <a:xfrm>
              <a:off x="93672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63" descr="folder3_grey"/>
            <p:cNvPicPr/>
            <p:nvPr/>
          </p:nvPicPr>
          <p:blipFill>
            <a:blip r:embed="rId23"/>
            <a:stretch/>
          </p:blipFill>
          <p:spPr>
            <a:xfrm>
              <a:off x="126072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64" descr="folder3_yellow"/>
            <p:cNvPicPr/>
            <p:nvPr/>
          </p:nvPicPr>
          <p:blipFill>
            <a:blip r:embed="rId24"/>
            <a:stretch/>
          </p:blipFill>
          <p:spPr>
            <a:xfrm>
              <a:off x="160344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4" name="Group 68"/>
          <p:cNvGrpSpPr/>
          <p:nvPr/>
        </p:nvGrpSpPr>
        <p:grpSpPr>
          <a:xfrm>
            <a:off x="7461360" y="5427720"/>
            <a:ext cx="1071360" cy="846000"/>
            <a:chOff x="7461360" y="5427720"/>
            <a:chExt cx="1071360" cy="846000"/>
          </a:xfrm>
        </p:grpSpPr>
        <p:sp>
          <p:nvSpPr>
            <p:cNvPr id="645" name="AutoShape 69"/>
            <p:cNvSpPr/>
            <p:nvPr/>
          </p:nvSpPr>
          <p:spPr>
            <a:xfrm>
              <a:off x="7462800" y="5451480"/>
              <a:ext cx="1069560" cy="82224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6" name="AutoShape 70"/>
            <p:cNvSpPr/>
            <p:nvPr/>
          </p:nvSpPr>
          <p:spPr>
            <a:xfrm>
              <a:off x="7461360" y="5452920"/>
              <a:ext cx="107136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0000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7" name="AutoShape 71"/>
            <p:cNvSpPr/>
            <p:nvPr/>
          </p:nvSpPr>
          <p:spPr>
            <a:xfrm>
              <a:off x="7462800" y="5452920"/>
              <a:ext cx="1069560" cy="18756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8" name="Line 72"/>
            <p:cNvSpPr/>
            <p:nvPr/>
          </p:nvSpPr>
          <p:spPr>
            <a:xfrm>
              <a:off x="7462800" y="5645160"/>
              <a:ext cx="106956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9" name="Text Box 73"/>
            <p:cNvSpPr/>
            <p:nvPr/>
          </p:nvSpPr>
          <p:spPr>
            <a:xfrm>
              <a:off x="746136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???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50" name="Picture 74" descr="folder2_grey"/>
            <p:cNvPicPr/>
            <p:nvPr/>
          </p:nvPicPr>
          <p:blipFill>
            <a:blip r:embed="rId25"/>
            <a:stretch/>
          </p:blipFill>
          <p:spPr>
            <a:xfrm>
              <a:off x="7464240" y="5662440"/>
              <a:ext cx="60768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75" descr="unknown2"/>
            <p:cNvPicPr/>
            <p:nvPr/>
          </p:nvPicPr>
          <p:blipFill>
            <a:blip r:embed="rId26"/>
            <a:stretch/>
          </p:blipFill>
          <p:spPr>
            <a:xfrm>
              <a:off x="7856280" y="5643360"/>
              <a:ext cx="593280" cy="59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2" name="Group 76"/>
          <p:cNvGrpSpPr/>
          <p:nvPr/>
        </p:nvGrpSpPr>
        <p:grpSpPr>
          <a:xfrm>
            <a:off x="1405080" y="4995720"/>
            <a:ext cx="1055160" cy="489240"/>
            <a:chOff x="1405080" y="4995720"/>
            <a:chExt cx="1055160" cy="489240"/>
          </a:xfrm>
        </p:grpSpPr>
        <p:pic>
          <p:nvPicPr>
            <p:cNvPr id="653" name="Picture 77" descr="ArrowDown"/>
            <p:cNvPicPr/>
            <p:nvPr/>
          </p:nvPicPr>
          <p:blipFill>
            <a:blip r:embed="rId27"/>
            <a:stretch/>
          </p:blipFill>
          <p:spPr>
            <a:xfrm>
              <a:off x="194292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78" descr="ArrowDown"/>
            <p:cNvPicPr/>
            <p:nvPr/>
          </p:nvPicPr>
          <p:blipFill>
            <a:blip r:embed="rId28"/>
            <a:stretch/>
          </p:blipFill>
          <p:spPr>
            <a:xfrm>
              <a:off x="140508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Group 79"/>
          <p:cNvGrpSpPr/>
          <p:nvPr/>
        </p:nvGrpSpPr>
        <p:grpSpPr>
          <a:xfrm>
            <a:off x="3600360" y="5019840"/>
            <a:ext cx="1082520" cy="1271160"/>
            <a:chOff x="3600360" y="5019840"/>
            <a:chExt cx="1082520" cy="1271160"/>
          </a:xfrm>
        </p:grpSpPr>
        <p:sp>
          <p:nvSpPr>
            <p:cNvPr id="656" name="AutoShape 80"/>
            <p:cNvSpPr/>
            <p:nvPr/>
          </p:nvSpPr>
          <p:spPr>
            <a:xfrm>
              <a:off x="3605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7" name="AutoShape 81"/>
            <p:cNvSpPr/>
            <p:nvPr/>
          </p:nvSpPr>
          <p:spPr>
            <a:xfrm>
              <a:off x="3603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99cc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8" name="AutoShape 82"/>
            <p:cNvSpPr/>
            <p:nvPr/>
          </p:nvSpPr>
          <p:spPr>
            <a:xfrm>
              <a:off x="3605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9" name="Line 83"/>
            <p:cNvSpPr/>
            <p:nvPr/>
          </p:nvSpPr>
          <p:spPr>
            <a:xfrm>
              <a:off x="3605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0" name="Text Box 84"/>
            <p:cNvSpPr/>
            <p:nvPr/>
          </p:nvSpPr>
          <p:spPr>
            <a:xfrm>
              <a:off x="3603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XML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61" name="Picture 85" descr="XMLDocument"/>
            <p:cNvPicPr/>
            <p:nvPr/>
          </p:nvPicPr>
          <p:blipFill>
            <a:blip r:embed="rId29"/>
            <a:stretch/>
          </p:blipFill>
          <p:spPr>
            <a:xfrm>
              <a:off x="4063680" y="5672160"/>
              <a:ext cx="61920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86" descr="folder2"/>
            <p:cNvPicPr/>
            <p:nvPr/>
          </p:nvPicPr>
          <p:blipFill>
            <a:blip r:embed="rId30"/>
            <a:stretch/>
          </p:blipFill>
          <p:spPr>
            <a:xfrm>
              <a:off x="3600360" y="566424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87" descr="UpDownArrow"/>
            <p:cNvPicPr/>
            <p:nvPr/>
          </p:nvPicPr>
          <p:blipFill>
            <a:blip r:embed="rId31"/>
            <a:stretch/>
          </p:blipFill>
          <p:spPr>
            <a:xfrm>
              <a:off x="39970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Group 88"/>
          <p:cNvGrpSpPr/>
          <p:nvPr/>
        </p:nvGrpSpPr>
        <p:grpSpPr>
          <a:xfrm>
            <a:off x="4746600" y="5019840"/>
            <a:ext cx="1071360" cy="1256760"/>
            <a:chOff x="4746600" y="5019840"/>
            <a:chExt cx="1071360" cy="1256760"/>
          </a:xfrm>
        </p:grpSpPr>
        <p:sp>
          <p:nvSpPr>
            <p:cNvPr id="665" name="AutoShape 89"/>
            <p:cNvSpPr/>
            <p:nvPr/>
          </p:nvSpPr>
          <p:spPr>
            <a:xfrm>
              <a:off x="4748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6" name="AutoShape 90"/>
            <p:cNvSpPr/>
            <p:nvPr/>
          </p:nvSpPr>
          <p:spPr>
            <a:xfrm>
              <a:off x="4746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8000">
                    <a:alpha val="25098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7" name="AutoShape 91"/>
            <p:cNvSpPr/>
            <p:nvPr/>
          </p:nvSpPr>
          <p:spPr>
            <a:xfrm>
              <a:off x="4748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8" name="Line 92"/>
            <p:cNvSpPr/>
            <p:nvPr/>
          </p:nvSpPr>
          <p:spPr>
            <a:xfrm>
              <a:off x="4748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9" name="Text Box 93"/>
            <p:cNvSpPr/>
            <p:nvPr/>
          </p:nvSpPr>
          <p:spPr>
            <a:xfrm>
              <a:off x="4746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Ellogon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70" name="Picture 94" descr="unknown"/>
            <p:cNvPicPr/>
            <p:nvPr/>
          </p:nvPicPr>
          <p:blipFill>
            <a:blip r:embed="rId32"/>
            <a:stretch/>
          </p:blipFill>
          <p:spPr>
            <a:xfrm>
              <a:off x="520992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95" descr="folder2_green"/>
            <p:cNvPicPr/>
            <p:nvPr/>
          </p:nvPicPr>
          <p:blipFill>
            <a:blip r:embed="rId33"/>
            <a:stretch/>
          </p:blipFill>
          <p:spPr>
            <a:xfrm>
              <a:off x="4746600" y="5665680"/>
              <a:ext cx="60768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96" descr="EllogonLogo_EGear"/>
            <p:cNvPicPr/>
            <p:nvPr/>
          </p:nvPicPr>
          <p:blipFill>
            <a:blip r:embed="rId34"/>
            <a:stretch/>
          </p:blipFill>
          <p:spPr>
            <a:xfrm>
              <a:off x="5209920" y="5861160"/>
              <a:ext cx="335160" cy="3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97" descr="UpDownArrow"/>
            <p:cNvPicPr/>
            <p:nvPr/>
          </p:nvPicPr>
          <p:blipFill>
            <a:blip r:embed="rId35"/>
            <a:stretch/>
          </p:blipFill>
          <p:spPr>
            <a:xfrm>
              <a:off x="5119560" y="5019840"/>
              <a:ext cx="28080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4" name="Group 98"/>
          <p:cNvGrpSpPr/>
          <p:nvPr/>
        </p:nvGrpSpPr>
        <p:grpSpPr>
          <a:xfrm>
            <a:off x="5881680" y="5019840"/>
            <a:ext cx="1521000" cy="1267920"/>
            <a:chOff x="5881680" y="5019840"/>
            <a:chExt cx="1521000" cy="1267920"/>
          </a:xfrm>
        </p:grpSpPr>
        <p:sp>
          <p:nvSpPr>
            <p:cNvPr id="675" name="AutoShape 99"/>
            <p:cNvSpPr/>
            <p:nvPr/>
          </p:nvSpPr>
          <p:spPr>
            <a:xfrm>
              <a:off x="5883480" y="5451480"/>
              <a:ext cx="151920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6" name="AutoShape 100"/>
            <p:cNvSpPr/>
            <p:nvPr/>
          </p:nvSpPr>
          <p:spPr>
            <a:xfrm>
              <a:off x="5881680" y="5452920"/>
              <a:ext cx="152100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7" name="AutoShape 101"/>
            <p:cNvSpPr/>
            <p:nvPr/>
          </p:nvSpPr>
          <p:spPr>
            <a:xfrm>
              <a:off x="5883480" y="5452920"/>
              <a:ext cx="1519200" cy="19332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8" name="Line 102"/>
            <p:cNvSpPr/>
            <p:nvPr/>
          </p:nvSpPr>
          <p:spPr>
            <a:xfrm>
              <a:off x="5883480" y="5645160"/>
              <a:ext cx="151920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9" name="Text Box 103"/>
            <p:cNvSpPr/>
            <p:nvPr/>
          </p:nvSpPr>
          <p:spPr>
            <a:xfrm>
              <a:off x="5881680" y="5427720"/>
              <a:ext cx="152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Databases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80" name="Picture 104" descr="folder2_yellow"/>
            <p:cNvPicPr/>
            <p:nvPr/>
          </p:nvPicPr>
          <p:blipFill>
            <a:blip r:embed="rId36"/>
            <a:stretch/>
          </p:blipFill>
          <p:spPr>
            <a:xfrm>
              <a:off x="607860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105" descr="spreadsheet"/>
            <p:cNvPicPr/>
            <p:nvPr/>
          </p:nvPicPr>
          <p:blipFill>
            <a:blip r:embed="rId37"/>
            <a:stretch/>
          </p:blipFill>
          <p:spPr>
            <a:xfrm>
              <a:off x="6507360" y="568008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106" descr="UpDownArrow"/>
            <p:cNvPicPr/>
            <p:nvPr/>
          </p:nvPicPr>
          <p:blipFill>
            <a:blip r:embed="rId38"/>
            <a:stretch/>
          </p:blipFill>
          <p:spPr>
            <a:xfrm>
              <a:off x="63802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Group 110"/>
          <p:cNvGrpSpPr/>
          <p:nvPr/>
        </p:nvGrpSpPr>
        <p:grpSpPr>
          <a:xfrm>
            <a:off x="684360" y="3699000"/>
            <a:ext cx="6084720" cy="1333440"/>
            <a:chOff x="684360" y="3699000"/>
            <a:chExt cx="6084720" cy="1333440"/>
          </a:xfrm>
        </p:grpSpPr>
        <p:sp>
          <p:nvSpPr>
            <p:cNvPr id="684" name="AutoShape 36"/>
            <p:cNvSpPr/>
            <p:nvPr/>
          </p:nvSpPr>
          <p:spPr>
            <a:xfrm>
              <a:off x="684360" y="3741840"/>
              <a:ext cx="6084720" cy="1290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008000">
                    <a:alpha val="15294"/>
                  </a:srgbClr>
                </a:gs>
                <a:gs pos="50000">
                  <a:srgbClr val="ccffcc">
                    <a:alpha val="15294"/>
                  </a:srgbClr>
                </a:gs>
                <a:gs pos="100000">
                  <a:srgbClr val="008000">
                    <a:alpha val="15294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5" name="AutoShape 37"/>
            <p:cNvSpPr/>
            <p:nvPr/>
          </p:nvSpPr>
          <p:spPr>
            <a:xfrm>
              <a:off x="684360" y="3741840"/>
              <a:ext cx="6084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6" name="Line 38"/>
            <p:cNvSpPr/>
            <p:nvPr/>
          </p:nvSpPr>
          <p:spPr>
            <a:xfrm>
              <a:off x="684360" y="4029120"/>
              <a:ext cx="608472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7" name="Text Box 39"/>
            <p:cNvSpPr/>
            <p:nvPr/>
          </p:nvSpPr>
          <p:spPr>
            <a:xfrm>
              <a:off x="706320" y="3699000"/>
              <a:ext cx="53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Collection – Document Manager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grpSp>
          <p:nvGrpSpPr>
            <p:cNvPr id="688" name="Group 65"/>
            <p:cNvGrpSpPr/>
            <p:nvPr/>
          </p:nvGrpSpPr>
          <p:grpSpPr>
            <a:xfrm>
              <a:off x="3941640" y="4424400"/>
              <a:ext cx="2755440" cy="606240"/>
              <a:chOff x="3941640" y="4424400"/>
              <a:chExt cx="2755440" cy="606240"/>
            </a:xfrm>
          </p:grpSpPr>
          <p:sp>
            <p:nvSpPr>
              <p:cNvPr id="689" name="AutoShape 66"/>
              <p:cNvSpPr/>
              <p:nvPr/>
            </p:nvSpPr>
            <p:spPr>
              <a:xfrm>
                <a:off x="3941640" y="4424400"/>
                <a:ext cx="2754000" cy="606240"/>
              </a:xfrm>
              <a:prstGeom prst="roundRect">
                <a:avLst>
                  <a:gd name="adj" fmla="val 714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690" name="AutoShape 67"/>
              <p:cNvSpPr/>
              <p:nvPr/>
            </p:nvSpPr>
            <p:spPr>
              <a:xfrm>
                <a:off x="3941640" y="4425840"/>
                <a:ext cx="2755440" cy="604800"/>
              </a:xfrm>
              <a:prstGeom prst="roundRect">
                <a:avLst>
                  <a:gd name="adj" fmla="val 5801"/>
                </a:avLst>
              </a:prstGeom>
              <a:gradFill rotWithShape="0">
                <a:gsLst>
                  <a:gs pos="0">
                    <a:srgbClr val="ffcc99">
                      <a:alpha val="60392"/>
                    </a:srgbClr>
                  </a:gs>
                  <a:gs pos="100000">
                    <a:srgbClr val="ffe5cb">
                      <a:alpha val="60392"/>
                    </a:srgbClr>
                  </a:gs>
                </a:gsLst>
                <a:lin ang="5400000"/>
              </a:gradFill>
              <a:ln w="6480">
                <a:solidFill>
                  <a:srgbClr val="9492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76889c"/>
                    </a:solidFill>
                    <a:latin typeface="Arial"/>
                  </a:rPr>
                  <a:t>Storage Format Abstraction Layer</a:t>
                </a:r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sp>
          <p:nvSpPr>
            <p:cNvPr id="691" name="AutoShape 107"/>
            <p:cNvSpPr/>
            <p:nvPr/>
          </p:nvSpPr>
          <p:spPr>
            <a:xfrm>
              <a:off x="1056960" y="4157640"/>
              <a:ext cx="1712520" cy="868320"/>
            </a:xfrm>
            <a:prstGeom prst="flowChartAlternateProcess">
              <a:avLst/>
            </a:prstGeom>
            <a:gradFill rotWithShape="0">
              <a:gsLst>
                <a:gs pos="0">
                  <a:srgbClr val="cfdfff"/>
                </a:gs>
                <a:gs pos="50000">
                  <a:srgbClr val="a1c0ff"/>
                </a:gs>
                <a:gs pos="100000">
                  <a:srgbClr val="cfd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3399"/>
                  </a:solidFill>
                  <a:latin typeface="Arial"/>
                </a:rPr>
                <a:t>C++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2" name="AutoShape 108"/>
            <p:cNvSpPr/>
            <p:nvPr/>
          </p:nvSpPr>
          <p:spPr>
            <a:xfrm>
              <a:off x="1258560" y="4540320"/>
              <a:ext cx="1290240" cy="40932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80"/>
                  </a:solidFill>
                  <a:latin typeface="Arial"/>
                </a:rPr>
                <a:t>C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3" name="AutoShape 109"/>
            <p:cNvSpPr/>
            <p:nvPr/>
          </p:nvSpPr>
          <p:spPr>
            <a:xfrm>
              <a:off x="2373120" y="4613400"/>
              <a:ext cx="1726920" cy="233280"/>
            </a:xfrm>
            <a:prstGeom prst="leftRightArrow">
              <a:avLst>
                <a:gd name="adj1" fmla="val 50000"/>
                <a:gd name="adj2" fmla="val 147370"/>
              </a:avLst>
            </a:prstGeom>
            <a:gradFill rotWithShape="0">
              <a:gsLst>
                <a:gs pos="0">
                  <a:srgbClr val="ccffcc"/>
                </a:gs>
                <a:gs pos="50000">
                  <a:srgbClr val="00ff00"/>
                </a:gs>
                <a:gs pos="100000">
                  <a:srgbClr val="ccffcc"/>
                </a:gs>
              </a:gsLst>
              <a:lin ang="0"/>
            </a:gra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694" name="Slide Number Placeholder 107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C833-855E-49A9-9D62-08F7B91FCE2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5" name="Date Placeholder 10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Footer Placeholder 10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indefinite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indefinite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indefinite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: plug-ins in many programming langu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8" name="Group 14"/>
          <p:cNvGrpSpPr/>
          <p:nvPr/>
        </p:nvGrpSpPr>
        <p:grpSpPr>
          <a:xfrm>
            <a:off x="609480" y="1233360"/>
            <a:ext cx="7813440" cy="4969080"/>
            <a:chOff x="609480" y="1233360"/>
            <a:chExt cx="7813440" cy="4969080"/>
          </a:xfrm>
        </p:grpSpPr>
        <p:sp>
          <p:nvSpPr>
            <p:cNvPr id="699" name="AutoShape 15"/>
            <p:cNvSpPr/>
            <p:nvPr/>
          </p:nvSpPr>
          <p:spPr>
            <a:xfrm>
              <a:off x="609480" y="1233360"/>
              <a:ext cx="7813440" cy="496908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0" name="AutoShape 16"/>
            <p:cNvSpPr/>
            <p:nvPr/>
          </p:nvSpPr>
          <p:spPr>
            <a:xfrm>
              <a:off x="609480" y="1233360"/>
              <a:ext cx="7813440" cy="2876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1" name="Line 17"/>
            <p:cNvSpPr/>
            <p:nvPr/>
          </p:nvSpPr>
          <p:spPr>
            <a:xfrm>
              <a:off x="609480" y="1521000"/>
              <a:ext cx="781344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2" name="Group 13"/>
          <p:cNvGrpSpPr/>
          <p:nvPr/>
        </p:nvGrpSpPr>
        <p:grpSpPr>
          <a:xfrm>
            <a:off x="755640" y="1617840"/>
            <a:ext cx="3346200" cy="1019160"/>
            <a:chOff x="755640" y="1617840"/>
            <a:chExt cx="3346200" cy="1019160"/>
          </a:xfrm>
        </p:grpSpPr>
        <p:sp>
          <p:nvSpPr>
            <p:cNvPr id="703" name="AutoShape 7"/>
            <p:cNvSpPr/>
            <p:nvPr/>
          </p:nvSpPr>
          <p:spPr>
            <a:xfrm>
              <a:off x="755640" y="1665360"/>
              <a:ext cx="3346200" cy="957240"/>
            </a:xfrm>
            <a:prstGeom prst="roundRect">
              <a:avLst>
                <a:gd name="adj" fmla="val 10269"/>
              </a:avLst>
            </a:prstGeom>
            <a:gradFill rotWithShape="0">
              <a:gsLst>
                <a:gs pos="0">
                  <a:srgbClr val="d7f5ff"/>
                </a:gs>
                <a:gs pos="100000">
                  <a:srgbClr val="ffffff"/>
                </a:gs>
              </a:gsLst>
              <a:lin ang="0"/>
            </a:gradFill>
            <a:ln w="64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4" name="Text Box 8"/>
            <p:cNvSpPr/>
            <p:nvPr/>
          </p:nvSpPr>
          <p:spPr>
            <a:xfrm>
              <a:off x="1657440" y="1737000"/>
              <a:ext cx="2444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99cc"/>
                  </a:solidFill>
                  <a:latin typeface="Arial"/>
                </a:rPr>
                <a:t>Ellogon</a:t>
              </a:r>
              <a:endParaRPr b="0" lang="en-US" sz="4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705" name="Picture 11" descr="execBlueAdaptiveContrast"/>
            <p:cNvPicPr/>
            <p:nvPr/>
          </p:nvPicPr>
          <p:blipFill>
            <a:blip r:embed="rId1"/>
            <a:stretch/>
          </p:blipFill>
          <p:spPr>
            <a:xfrm>
              <a:off x="755640" y="1617840"/>
              <a:ext cx="1019160" cy="10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6" name="Group 31"/>
          <p:cNvGrpSpPr/>
          <p:nvPr/>
        </p:nvGrpSpPr>
        <p:grpSpPr>
          <a:xfrm>
            <a:off x="3849840" y="2884320"/>
            <a:ext cx="3601440" cy="650880"/>
            <a:chOff x="3849840" y="2884320"/>
            <a:chExt cx="3601440" cy="650880"/>
          </a:xfrm>
        </p:grpSpPr>
        <p:pic>
          <p:nvPicPr>
            <p:cNvPr id="707" name="Picture 20" descr="execGreen"/>
            <p:cNvPicPr/>
            <p:nvPr/>
          </p:nvPicPr>
          <p:blipFill>
            <a:blip r:embed="rId2"/>
            <a:stretch/>
          </p:blipFill>
          <p:spPr>
            <a:xfrm>
              <a:off x="3849840" y="288432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Text Box 21"/>
            <p:cNvSpPr/>
            <p:nvPr/>
          </p:nvSpPr>
          <p:spPr>
            <a:xfrm>
              <a:off x="4429080" y="2960640"/>
              <a:ext cx="30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cc33"/>
                  </a:solidFill>
                  <a:latin typeface="Verdana"/>
                </a:rPr>
                <a:t>C/C++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9" name="Group 32"/>
          <p:cNvGrpSpPr/>
          <p:nvPr/>
        </p:nvGrpSpPr>
        <p:grpSpPr>
          <a:xfrm>
            <a:off x="3849840" y="3465360"/>
            <a:ext cx="3130560" cy="650880"/>
            <a:chOff x="3849840" y="3465360"/>
            <a:chExt cx="3130560" cy="650880"/>
          </a:xfrm>
        </p:grpSpPr>
        <p:pic>
          <p:nvPicPr>
            <p:cNvPr id="710" name="Picture 19" descr="execRed"/>
            <p:cNvPicPr/>
            <p:nvPr/>
          </p:nvPicPr>
          <p:blipFill>
            <a:blip r:embed="rId3"/>
            <a:stretch/>
          </p:blipFill>
          <p:spPr>
            <a:xfrm>
              <a:off x="3849840" y="346536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Text Box 22"/>
            <p:cNvSpPr/>
            <p:nvPr/>
          </p:nvSpPr>
          <p:spPr>
            <a:xfrm>
              <a:off x="4429440" y="3537000"/>
              <a:ext cx="25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9900"/>
                  </a:solidFill>
                  <a:latin typeface="Verdana"/>
                </a:rPr>
                <a:t>Java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2" name="Group 33"/>
          <p:cNvGrpSpPr/>
          <p:nvPr/>
        </p:nvGrpSpPr>
        <p:grpSpPr>
          <a:xfrm>
            <a:off x="3849840" y="4041720"/>
            <a:ext cx="2917440" cy="655560"/>
            <a:chOff x="3849840" y="4041720"/>
            <a:chExt cx="2917440" cy="655560"/>
          </a:xfrm>
        </p:grpSpPr>
        <p:pic>
          <p:nvPicPr>
            <p:cNvPr id="713" name="Picture 23" descr="execOrange"/>
            <p:cNvPicPr/>
            <p:nvPr/>
          </p:nvPicPr>
          <p:blipFill>
            <a:blip r:embed="rId4"/>
            <a:stretch/>
          </p:blipFill>
          <p:spPr>
            <a:xfrm>
              <a:off x="3849840" y="4041720"/>
              <a:ext cx="655560" cy="6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Text Box 24"/>
            <p:cNvSpPr/>
            <p:nvPr/>
          </p:nvSpPr>
          <p:spPr>
            <a:xfrm>
              <a:off x="4429080" y="4087800"/>
              <a:ext cx="23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cc00"/>
                  </a:solidFill>
                  <a:latin typeface="Verdana"/>
                </a:rPr>
                <a:t>Tc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5" name="Group 34"/>
          <p:cNvGrpSpPr/>
          <p:nvPr/>
        </p:nvGrpSpPr>
        <p:grpSpPr>
          <a:xfrm>
            <a:off x="3849840" y="4616280"/>
            <a:ext cx="3130560" cy="650880"/>
            <a:chOff x="3849840" y="4616280"/>
            <a:chExt cx="3130560" cy="650880"/>
          </a:xfrm>
        </p:grpSpPr>
        <p:pic>
          <p:nvPicPr>
            <p:cNvPr id="716" name="Picture 25" descr="execDeepBlue"/>
            <p:cNvPicPr/>
            <p:nvPr/>
          </p:nvPicPr>
          <p:blipFill>
            <a:blip r:embed="rId5"/>
            <a:stretch/>
          </p:blipFill>
          <p:spPr>
            <a:xfrm>
              <a:off x="3849840" y="461628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Text Box 27"/>
            <p:cNvSpPr/>
            <p:nvPr/>
          </p:nvSpPr>
          <p:spPr>
            <a:xfrm>
              <a:off x="4428000" y="4689360"/>
              <a:ext cx="25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Verdana"/>
                </a:rPr>
                <a:t>Per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8" name="Group 35"/>
          <p:cNvGrpSpPr/>
          <p:nvPr/>
        </p:nvGrpSpPr>
        <p:grpSpPr>
          <a:xfrm>
            <a:off x="3849840" y="5191200"/>
            <a:ext cx="3528360" cy="650880"/>
            <a:chOff x="3849840" y="5191200"/>
            <a:chExt cx="3528360" cy="650880"/>
          </a:xfrm>
        </p:grpSpPr>
        <p:pic>
          <p:nvPicPr>
            <p:cNvPr id="719" name="Picture 28" descr="execMustard"/>
            <p:cNvPicPr/>
            <p:nvPr/>
          </p:nvPicPr>
          <p:blipFill>
            <a:blip r:embed="rId6"/>
            <a:stretch/>
          </p:blipFill>
          <p:spPr>
            <a:xfrm>
              <a:off x="3849840" y="519120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30"/>
            <p:cNvSpPr/>
            <p:nvPr/>
          </p:nvSpPr>
          <p:spPr>
            <a:xfrm>
              <a:off x="4427640" y="5276880"/>
              <a:ext cx="295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cc00"/>
                  </a:solidFill>
                  <a:latin typeface="Verdana"/>
                </a:rPr>
                <a:t>Python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21" name="Group 41"/>
          <p:cNvGrpSpPr/>
          <p:nvPr/>
        </p:nvGrpSpPr>
        <p:grpSpPr>
          <a:xfrm>
            <a:off x="1071720" y="2622240"/>
            <a:ext cx="368280" cy="3219480"/>
            <a:chOff x="1071720" y="2622240"/>
            <a:chExt cx="368280" cy="3219480"/>
          </a:xfrm>
        </p:grpSpPr>
        <p:sp>
          <p:nvSpPr>
            <p:cNvPr id="722" name="AutoShape 42"/>
            <p:cNvSpPr/>
            <p:nvPr/>
          </p:nvSpPr>
          <p:spPr>
            <a:xfrm rot="16200000">
              <a:off x="-362520" y="4070160"/>
              <a:ext cx="3205800" cy="336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 rot="16200000">
              <a:off x="-353520" y="4047840"/>
              <a:ext cx="321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cc"/>
                  </a:solidFill>
                  <a:latin typeface="Arial"/>
                </a:rPr>
                <a:t>CDM API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24" name="Line 44"/>
          <p:cNvSpPr/>
          <p:nvPr/>
        </p:nvSpPr>
        <p:spPr>
          <a:xfrm>
            <a:off x="1440000" y="317664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5" name="Line 45"/>
          <p:cNvSpPr/>
          <p:nvPr/>
        </p:nvSpPr>
        <p:spPr>
          <a:xfrm>
            <a:off x="144000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6" name="Line 46"/>
          <p:cNvSpPr/>
          <p:nvPr/>
        </p:nvSpPr>
        <p:spPr>
          <a:xfrm>
            <a:off x="144000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7" name="Line 47"/>
          <p:cNvSpPr/>
          <p:nvPr/>
        </p:nvSpPr>
        <p:spPr>
          <a:xfrm>
            <a:off x="1440000" y="490536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8" name="Line 48"/>
          <p:cNvSpPr/>
          <p:nvPr/>
        </p:nvSpPr>
        <p:spPr>
          <a:xfrm>
            <a:off x="1440000" y="548172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29" name="Group 2195"/>
          <p:cNvGrpSpPr/>
          <p:nvPr/>
        </p:nvGrpSpPr>
        <p:grpSpPr>
          <a:xfrm>
            <a:off x="1722600" y="3514680"/>
            <a:ext cx="1949400" cy="490320"/>
            <a:chOff x="1722600" y="3514680"/>
            <a:chExt cx="1949400" cy="490320"/>
          </a:xfrm>
        </p:grpSpPr>
        <p:grpSp>
          <p:nvGrpSpPr>
            <p:cNvPr id="730" name="Group 2166"/>
            <p:cNvGrpSpPr/>
            <p:nvPr/>
          </p:nvGrpSpPr>
          <p:grpSpPr>
            <a:xfrm>
              <a:off x="1722600" y="3514680"/>
              <a:ext cx="1949400" cy="490320"/>
              <a:chOff x="1722600" y="3514680"/>
              <a:chExt cx="1949400" cy="490320"/>
            </a:xfrm>
          </p:grpSpPr>
          <p:sp>
            <p:nvSpPr>
              <p:cNvPr id="731" name="AutoShape 2167"/>
              <p:cNvSpPr/>
              <p:nvPr/>
            </p:nvSpPr>
            <p:spPr>
              <a:xfrm>
                <a:off x="1722600" y="3514680"/>
                <a:ext cx="1941120" cy="44784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32" name="Text Box 2168"/>
              <p:cNvSpPr/>
              <p:nvPr/>
            </p:nvSpPr>
            <p:spPr>
              <a:xfrm>
                <a:off x="1722600" y="3514680"/>
                <a:ext cx="194940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9900"/>
                    </a:solidFill>
                    <a:latin typeface="Arial"/>
                  </a:rPr>
                  <a:t>Java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33" name="Picture 49" descr="JavaModule"/>
            <p:cNvPicPr/>
            <p:nvPr/>
          </p:nvPicPr>
          <p:blipFill>
            <a:blip r:embed="rId7"/>
            <a:stretch/>
          </p:blipFill>
          <p:spPr>
            <a:xfrm>
              <a:off x="1806480" y="3560760"/>
              <a:ext cx="388800" cy="38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4" name="Line 2170"/>
          <p:cNvSpPr/>
          <p:nvPr/>
        </p:nvSpPr>
        <p:spPr>
          <a:xfrm>
            <a:off x="369252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5" name="Line 2176"/>
          <p:cNvSpPr/>
          <p:nvPr/>
        </p:nvSpPr>
        <p:spPr>
          <a:xfrm>
            <a:off x="369252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36" name="Group 2178"/>
          <p:cNvGrpSpPr/>
          <p:nvPr/>
        </p:nvGrpSpPr>
        <p:grpSpPr>
          <a:xfrm>
            <a:off x="1727280" y="4667400"/>
            <a:ext cx="1949400" cy="490320"/>
            <a:chOff x="1727280" y="4667400"/>
            <a:chExt cx="1949400" cy="490320"/>
          </a:xfrm>
        </p:grpSpPr>
        <p:sp>
          <p:nvSpPr>
            <p:cNvPr id="737" name="AutoShape 2179"/>
            <p:cNvSpPr/>
            <p:nvPr/>
          </p:nvSpPr>
          <p:spPr>
            <a:xfrm>
              <a:off x="1727280" y="466740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38" name="Text Box 2180"/>
            <p:cNvSpPr/>
            <p:nvPr/>
          </p:nvSpPr>
          <p:spPr>
            <a:xfrm>
              <a:off x="1727280" y="466740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Perl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39" name="Line 2182"/>
          <p:cNvSpPr/>
          <p:nvPr/>
        </p:nvSpPr>
        <p:spPr>
          <a:xfrm>
            <a:off x="3697200" y="490536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0" name="Group 2184"/>
          <p:cNvGrpSpPr/>
          <p:nvPr/>
        </p:nvGrpSpPr>
        <p:grpSpPr>
          <a:xfrm>
            <a:off x="1727280" y="5243400"/>
            <a:ext cx="1949400" cy="490680"/>
            <a:chOff x="1727280" y="5243400"/>
            <a:chExt cx="1949400" cy="490680"/>
          </a:xfrm>
        </p:grpSpPr>
        <p:sp>
          <p:nvSpPr>
            <p:cNvPr id="741" name="AutoShape 2185"/>
            <p:cNvSpPr/>
            <p:nvPr/>
          </p:nvSpPr>
          <p:spPr>
            <a:xfrm>
              <a:off x="1727280" y="5243400"/>
              <a:ext cx="1941120" cy="4482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2" name="Text Box 2186"/>
            <p:cNvSpPr/>
            <p:nvPr/>
          </p:nvSpPr>
          <p:spPr>
            <a:xfrm>
              <a:off x="1727280" y="524340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00"/>
                  </a:solidFill>
                  <a:latin typeface="Arial"/>
                </a:rPr>
                <a:t>Python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3" name="Line 2188"/>
          <p:cNvSpPr/>
          <p:nvPr/>
        </p:nvSpPr>
        <p:spPr>
          <a:xfrm>
            <a:off x="3697200" y="548172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4" name="Group 2190"/>
          <p:cNvGrpSpPr/>
          <p:nvPr/>
        </p:nvGrpSpPr>
        <p:grpSpPr>
          <a:xfrm>
            <a:off x="1727280" y="2924280"/>
            <a:ext cx="1949400" cy="490320"/>
            <a:chOff x="1727280" y="2924280"/>
            <a:chExt cx="1949400" cy="490320"/>
          </a:xfrm>
        </p:grpSpPr>
        <p:sp>
          <p:nvSpPr>
            <p:cNvPr id="745" name="AutoShape 2191"/>
            <p:cNvSpPr/>
            <p:nvPr/>
          </p:nvSpPr>
          <p:spPr>
            <a:xfrm>
              <a:off x="1727280" y="292428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6" name="Text Box 2192"/>
            <p:cNvSpPr/>
            <p:nvPr/>
          </p:nvSpPr>
          <p:spPr>
            <a:xfrm>
              <a:off x="1727280" y="292428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Direct Link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7" name="Line 2194"/>
          <p:cNvSpPr/>
          <p:nvPr/>
        </p:nvSpPr>
        <p:spPr>
          <a:xfrm>
            <a:off x="3697200" y="316224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8" name="Group 2198"/>
          <p:cNvGrpSpPr/>
          <p:nvPr/>
        </p:nvGrpSpPr>
        <p:grpSpPr>
          <a:xfrm>
            <a:off x="1722600" y="4091040"/>
            <a:ext cx="1949400" cy="489960"/>
            <a:chOff x="1722600" y="4091040"/>
            <a:chExt cx="1949400" cy="489960"/>
          </a:xfrm>
        </p:grpSpPr>
        <p:grpSp>
          <p:nvGrpSpPr>
            <p:cNvPr id="749" name="Group 2172"/>
            <p:cNvGrpSpPr/>
            <p:nvPr/>
          </p:nvGrpSpPr>
          <p:grpSpPr>
            <a:xfrm>
              <a:off x="1722600" y="4091040"/>
              <a:ext cx="1949400" cy="489960"/>
              <a:chOff x="1722600" y="4091040"/>
              <a:chExt cx="1949400" cy="489960"/>
            </a:xfrm>
          </p:grpSpPr>
          <p:sp>
            <p:nvSpPr>
              <p:cNvPr id="750" name="AutoShape 2173"/>
              <p:cNvSpPr/>
              <p:nvPr/>
            </p:nvSpPr>
            <p:spPr>
              <a:xfrm>
                <a:off x="1722600" y="4091040"/>
                <a:ext cx="1941120" cy="44748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51" name="Text Box 2174"/>
              <p:cNvSpPr/>
              <p:nvPr/>
            </p:nvSpPr>
            <p:spPr>
              <a:xfrm>
                <a:off x="1722600" y="4091040"/>
                <a:ext cx="1949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Tcl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52" name="Picture 2196" descr="New Image"/>
            <p:cNvPicPr/>
            <p:nvPr/>
          </p:nvPicPr>
          <p:blipFill>
            <a:blip r:embed="rId8"/>
            <a:stretch/>
          </p:blipFill>
          <p:spPr>
            <a:xfrm>
              <a:off x="1824120" y="4176720"/>
              <a:ext cx="334440" cy="33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Slide Number Placeholder 5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983C-51D8-43B3-8972-F22B5A747DF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4" name="Date Placeholder 59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5" name="Footer Placeholder 60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E885-E802-4F9E-A9C7-9753512BD9E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7" name="Date Placeholder 8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8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roadmap for Ellogon 2.0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goals for Ellogon 2.0 are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’s core thread safe (done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 multi-threaded (feasible?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Ellogon &amp; the Tcl thread model can cooperat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dernise GUI (using OO and ttk widgets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30% comple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itially written in iTcl, now ported to TclO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cludes a complete rewrite of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notation Tool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of Ellog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86E3-840B-4095-898F-249E13018AF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on Tools: polymorphism require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notation tools is a very demanding are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lot of tasks that need annotated corpor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task, may have its own annotation sche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group, may pose different requirements for the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first generation of tools wa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ded in plain Tcl/Tk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icult to adapt/ext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E54C-6882-4925-8EB9-EED4A8C16D2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67" name="Picture 5" descr="EditAnnotationTools-TokenPosAttribute"/>
          <p:cNvPicPr/>
          <p:nvPr/>
        </p:nvPicPr>
        <p:blipFill>
          <a:blip r:embed="rId1"/>
          <a:stretch/>
        </p:blipFill>
        <p:spPr>
          <a:xfrm>
            <a:off x="674640" y="1125360"/>
            <a:ext cx="7794720" cy="5194440"/>
          </a:xfrm>
          <a:prstGeom prst="rect">
            <a:avLst/>
          </a:prstGeom>
          <a:ln w="0">
            <a:noFill/>
          </a:ln>
        </p:spPr>
      </p:pic>
      <p:sp>
        <p:nvSpPr>
          <p:cNvPr id="76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F3F4-C913-425B-BAEF-1FB053650A1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2" name="Picture 8" descr="EllogonEditAnnotationsOnHTML1"/>
          <p:cNvPicPr/>
          <p:nvPr/>
        </p:nvPicPr>
        <p:blipFill>
          <a:blip r:embed="rId1"/>
          <a:stretch/>
        </p:blipFill>
        <p:spPr>
          <a:xfrm>
            <a:off x="1339920" y="1197000"/>
            <a:ext cx="6464160" cy="5040360"/>
          </a:xfrm>
          <a:prstGeom prst="rect">
            <a:avLst/>
          </a:prstGeom>
          <a:ln w="0">
            <a:noFill/>
          </a:ln>
        </p:spPr>
      </p:pic>
      <p:sp>
        <p:nvSpPr>
          <p:cNvPr id="773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D177-A17C-4070-A152-92667757179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5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7" name="Picture 6" descr="EditingHierarchies"/>
          <p:cNvPicPr/>
          <p:nvPr/>
        </p:nvPicPr>
        <p:blipFill>
          <a:blip r:embed="rId1"/>
          <a:stretch/>
        </p:blipFill>
        <p:spPr>
          <a:xfrm>
            <a:off x="620640" y="1197000"/>
            <a:ext cx="7902720" cy="5040360"/>
          </a:xfrm>
          <a:prstGeom prst="rect">
            <a:avLst/>
          </a:prstGeom>
          <a:ln w="0">
            <a:noFill/>
          </a:ln>
        </p:spPr>
      </p:pic>
      <p:sp>
        <p:nvSpPr>
          <p:cNvPr id="77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810D-E690-4A92-9751-B04C7337F12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2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8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AD5E-1437-46BE-834A-75099748CE9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7" name="Picture 2" descr="C:\Users\George\Pictures\ZScreen Images\Text_Visual_Annotation_Editor...-20100728161851.png"/>
          <p:cNvPicPr/>
          <p:nvPr/>
        </p:nvPicPr>
        <p:blipFill>
          <a:blip r:embed="rId1"/>
          <a:stretch/>
        </p:blipFill>
        <p:spPr>
          <a:xfrm>
            <a:off x="14760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8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C711-258C-4F46-ABB8-C25268F69C3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2" name="Picture 2" descr="C:\Users\George\Pictures\ZScreen Images\Text_Visual_Annotation_Editor...-20100728161803.png"/>
          <p:cNvPicPr/>
          <p:nvPr/>
        </p:nvPicPr>
        <p:blipFill>
          <a:blip r:embed="rId1"/>
          <a:stretch/>
        </p:blipFill>
        <p:spPr>
          <a:xfrm>
            <a:off x="14616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9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AE5D-B3FD-4ECA-A8F8-E5A84067930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7" name="Picture 2" descr="C:\Users\George\Pictures\ZScreen Images\Text_Visual_Annotation_Editor...-20100728161833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9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D492-B9C7-410F-9032-133FEF8F73D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5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5484-EE35-41DA-8D06-70FC9FAC768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5" name="Picture 2" descr="C:\Users\George\Pictures\ZScreen Images\Text_Visual_Annotation_Editor_with_Annotation-based_text_selection...-20100728162045.png"/>
          <p:cNvPicPr/>
          <p:nvPr/>
        </p:nvPicPr>
        <p:blipFill>
          <a:blip r:embed="rId1"/>
          <a:stretch/>
        </p:blipFill>
        <p:spPr>
          <a:xfrm>
            <a:off x="1031760" y="1066680"/>
            <a:ext cx="7080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ssume an application that us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hat happens if it is run under ActiveTcl 8.6 beta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11" name="Picture 2" descr="C:\Users\George\Pictures\Itcl-Crash.png"/>
          <p:cNvPicPr/>
          <p:nvPr/>
        </p:nvPicPr>
        <p:blipFill>
          <a:blip r:embed="rId1"/>
          <a:stretch/>
        </p:blipFill>
        <p:spPr>
          <a:xfrm>
            <a:off x="1752480" y="2209680"/>
            <a:ext cx="6324840" cy="4006800"/>
          </a:xfrm>
          <a:prstGeom prst="rect">
            <a:avLst/>
          </a:prstGeom>
          <a:ln w="0">
            <a:noFill/>
          </a:ln>
        </p:spPr>
      </p:pic>
      <p:sp>
        <p:nvSpPr>
          <p:cNvPr id="512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2E88-0A67-4688-85CF-64373383AA3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3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4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6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07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0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6D84-18AA-46E2-A335-10CAFD13D39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7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8F1FD-C315-465D-9D25-157DE70A00E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5" name="Picture 2" descr="C:\Users\George\Pictures\ZScreen Images\Text_Visual_Annotation_Editor...-2010072816194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8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BF82-C5EB-4ED2-BE4C-0E757F8CDC0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0" name="Picture 2" descr="C:\Users\George\Pictures\ZScreen Images\Text_Visual_Annotation_Editor...-2010072816195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144D-0383-4A34-8242-52F2DCC3CBD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5" name="Picture 2" descr="C:\Users\George\Pictures\ZScreen Images\Text_Visual_Annotation_Editor...-20100728161957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0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27" name="Picture 2" descr="C:\Users\George\Pictures\ZScreen Images\Aligned_Text_Visual_Annotation_Editor...-20100728164754.png"/>
          <p:cNvPicPr/>
          <p:nvPr/>
        </p:nvPicPr>
        <p:blipFill>
          <a:blip r:embed="rId1"/>
          <a:stretch/>
        </p:blipFill>
        <p:spPr>
          <a:xfrm>
            <a:off x="117360" y="1219320"/>
            <a:ext cx="8909280" cy="4962240"/>
          </a:xfrm>
          <a:prstGeom prst="rect">
            <a:avLst/>
          </a:prstGeom>
          <a:ln w="0">
            <a:noFill/>
          </a:ln>
        </p:spPr>
      </p:pic>
      <p:sp>
        <p:nvSpPr>
          <p:cNvPr id="82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6EA2-24FF-412C-933F-6DCD47E6EAE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32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33" name="TextBox 4"/>
          <p:cNvSpPr/>
          <p:nvPr/>
        </p:nvSpPr>
        <p:spPr>
          <a:xfrm>
            <a:off x="3257640" y="123048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4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5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6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37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8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39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0" name="Slide Number Placeholder 12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2448-EEBA-49DB-B988-7AB9BC11217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1" name="Date Placeholder 11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2" name="Footer Placeholder 13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44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45" name="TextBox 4"/>
          <p:cNvSpPr/>
          <p:nvPr/>
        </p:nvSpPr>
        <p:spPr>
          <a:xfrm>
            <a:off x="3257640" y="114300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6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7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8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49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0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51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52" name="Picture 2" descr="C:\Users\George\Pictures\ZScreen Images\TextAnnotatorWithEvents.tcl_D...lepELEPVisualAnnotators_-_GVIM2-20100728171340.png"/>
          <p:cNvPicPr/>
          <p:nvPr/>
        </p:nvPicPr>
        <p:blipFill>
          <a:blip r:embed="rId2"/>
          <a:stretch/>
        </p:blipFill>
        <p:spPr>
          <a:xfrm>
            <a:off x="1347840" y="1143000"/>
            <a:ext cx="6448320" cy="5143680"/>
          </a:xfrm>
          <a:prstGeom prst="rect">
            <a:avLst/>
          </a:prstGeom>
          <a:ln w="0">
            <a:noFill/>
          </a:ln>
        </p:spPr>
      </p:pic>
      <p:sp>
        <p:nvSpPr>
          <p:cNvPr id="853" name="Slide Number Placeholder 1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193F-EA74-40FF-A477-5FC504AFAC9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4" name="Date Placeholder 1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5" name="Footer Placeholder 1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37AA-6BBE-435C-98C6-117F08E74F1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get/config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dd cget/configure on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need for a complex implementation of configure/cge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 only use them to get/set variable valu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Very easy to add new methods on all objects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verything is a child of oo::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mple implementati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oo::define oo::object method cget {name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set name [string range $name 1 end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y variable $name; return [set $name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get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3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D1D2-53E7-48ED-B168-DD4AAAE8FC7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4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66" name="Picture 2" descr="C:\Users\George\Pictures\ZScreen Images\Utilities.tcl_DUserspeta...2.0libelepELEPBase_-_GVIM1-20101007182431.png"/>
          <p:cNvPicPr/>
          <p:nvPr/>
        </p:nvPicPr>
        <p:blipFill>
          <a:blip r:embed="rId1"/>
          <a:stretch/>
        </p:blipFill>
        <p:spPr>
          <a:xfrm>
            <a:off x="976320" y="1309680"/>
            <a:ext cx="719136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has another trick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cedure oo::define::&lt;name&gt; extends oo::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mplementing ::oo::define::common allows to use the keyword “common” during class crea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ommon {varname args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&gt;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 … 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Get the name of the current clas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# Export method varnam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Initialise the variab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  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ar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6559-3B05-4BD5-934C-93864E062CD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this happens as iTcl 3.4 is loaded in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compile Tcl from sources (CVS HEAD 27/Jul/10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cl now contains a new iTcl implementation (4.0b4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17" name="Picture 2" descr="C:\Users\George\Pictures\Editor-Itcl4-Main.png"/>
          <p:cNvPicPr/>
          <p:nvPr/>
        </p:nvPicPr>
        <p:blipFill>
          <a:blip r:embed="rId1"/>
          <a:stretch/>
        </p:blipFill>
        <p:spPr>
          <a:xfrm>
            <a:off x="990720" y="3352680"/>
            <a:ext cx="7562880" cy="1162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C:\Users\George\Pictures\Editor-Itcl4-Console.png"/>
          <p:cNvPicPr/>
          <p:nvPr/>
        </p:nvPicPr>
        <p:blipFill>
          <a:blip r:embed="rId2"/>
          <a:stretch/>
        </p:blipFill>
        <p:spPr>
          <a:xfrm>
            <a:off x="1550880" y="1219320"/>
            <a:ext cx="6602400" cy="5105160"/>
          </a:xfrm>
          <a:prstGeom prst="rect">
            <a:avLst/>
          </a:prstGeom>
          <a:ln w="0">
            <a:noFill/>
          </a:ln>
        </p:spPr>
      </p:pic>
      <p:sp>
        <p:nvSpPr>
          <p:cNvPr id="519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8D63-362B-4F59-997B-3E32743B244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0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1" name="Footer Placeholder 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 common also needs a method to be called from methods accessing common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oo::object method common {args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allclas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self caller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forea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append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pairs 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va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pair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mmon and my cget/configure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do not mix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73A3-3B2D-4E23-A526-AE16D29C315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# Define "classmethod"...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lassmethod {name {args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body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} {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Code from: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Courier New"/>
                <a:ea typeface="Calibri"/>
                <a:hlinkClick r:id="rId1"/>
              </a:rPr>
              <a:t>http://wiki.tcl.tk/21595#pagetoce30e53a1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argc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4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s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self metho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bod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lse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-code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rror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..."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the name of the current class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its private "my" command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my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object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namespac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::my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Make the connection by forwarding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tailcall forwar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m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lassmethod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DDA7-75C1-4139-BF19-4E707470C4A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about inherita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Base::Utilities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userAppDir   {} {...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System::System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superclass ELEP::Base::Utilities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systemConfigurationDir {}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  </a:t>
            </a:r>
            <a:r>
              <a:rPr b="1" lang="en-US" sz="20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[my userAppDir]/Systems/Confi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alibri"/>
              </a:rPr>
              <a:t># systemConfigurationDi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unknown method "userAppDir"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1CD6-2639-41CC-A82C-F5541D13043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6" name="Footer Placeholder 5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AD02-E033-45F9-953D-0A87BB689F5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Ellogon, I don’t think in terms of Tk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fact, I totally ignore them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nly 3 classes available, which represent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oplevel, Dialog, Widget, Ribbon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RibbonToplevel has a Windows Ribbon instead of a menu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me common methods for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ClientAre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utomatic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n for toplevel/dialog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dget for widge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8DBC-42B6-439F-A7F9-335A3BB6211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idgets are destroyed when objects are deleted, and vise vers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a way similar to iTk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oplevel/Dialogs generate widgets based on the object nam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bjects of the Widget class need the widget type and na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Widget ttk::button .button ?arg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6902-63F9-4D17-970F-F8A1F833494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building bloc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ny building blocks that inherit Widge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nly the Tk widget that will contain the block is required (the “parent”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ButtonAnnotator, 1-Click selector, TemplateFiller, TextViewer, HTMLViewer, AllignedTextViewer, etc.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generic class that represents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from 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plits client area into two columns, separated by a ttk::panedwindow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l tools, subclass this class, add another layout if required, and create/place building block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4181-99DB-434A-AF0F-0F9A8AD0EC4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5EB8-B277-4815-AD6C-3388E651ABC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eating an Annotation Too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Gluing building blocks is easy, but what about the user experie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ets see an example, by creating an Annotation tool that annotates a document with a semantic model (i.e. an ontology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or this task, the bits required are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annotate “properties” found in the tex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properties into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objects into other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020B-FC0D-4A3D-9955-13F063F4050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18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91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6478-83B4-49A0-B97B-53A95CF71C2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iTcl 4.0 has a problem with a variabl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“correct”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variable objectsTree {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ethod CreatePropertiesPage_Objects {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chai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$objectsTree configure -dropenabled 1 -dragenabled 1 \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-dropcmd "$this CreatePropertiesPage_Objects_DropEvent“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reatePropertiesPage_Objec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24" name="Picture 2" descr="C:\Users\George\Pictures\Editor-Itcl4-Console2.png"/>
          <p:cNvPicPr/>
          <p:nvPr/>
        </p:nvPicPr>
        <p:blipFill>
          <a:blip r:embed="rId1"/>
          <a:stretch/>
        </p:blipFill>
        <p:spPr>
          <a:xfrm>
            <a:off x="182520" y="2133720"/>
            <a:ext cx="8778960" cy="4114800"/>
          </a:xfrm>
          <a:prstGeom prst="rect">
            <a:avLst/>
          </a:prstGeom>
          <a:ln w="0">
            <a:noFill/>
          </a:ln>
        </p:spPr>
      </p:pic>
      <p:sp>
        <p:nvSpPr>
          <p:cNvPr id="52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4B1F-20C0-42EA-B1BA-02763D24186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operates with a viewer (text, HTML, Aligned text, Aligned HTML) and allows the user to annotate the selected text with one or more properti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annotation schema is dynamic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createSpecificationSelectorObject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reates  an AnnotationSpecificationSelector objec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show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lls AnnotationSpecificationSelector.show() and waits for an answe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ous schemas are read from an XML file, and presented to the us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ton annotator adapts to the selected schem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24" name="Picture 2" descr="D:\Tcl\Select_Annotation_Characteristics...-20100731080951.png"/>
          <p:cNvPicPr/>
          <p:nvPr/>
        </p:nvPicPr>
        <p:blipFill>
          <a:blip r:embed="rId1"/>
          <a:stretch/>
        </p:blipFill>
        <p:spPr>
          <a:xfrm>
            <a:off x="2152800" y="1600200"/>
            <a:ext cx="4838400" cy="2400480"/>
          </a:xfrm>
          <a:prstGeom prst="rect">
            <a:avLst/>
          </a:prstGeom>
          <a:ln w="0">
            <a:noFill/>
          </a:ln>
        </p:spPr>
      </p:pic>
      <p:sp>
        <p:nvSpPr>
          <p:cNvPr id="925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E624-FB0B-4F91-BC9D-545466AA46E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rouping properties/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emplateFiller annotato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gain presents a dynamic schem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w method createSpecificationSelectorObject(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s  an AnnotationAndTemplateSpecificationSelector 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easy is to mix the two annotator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asy, just create the two objects and place them on a single annotation too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y disadvantage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es. The user gets </a:t>
            </a:r>
            <a:r>
              <a:rPr b="0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two dialog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for configuring a single tool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6ACC-9F71-4F3D-A642-BC4C63B6332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multiple dialog iss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can this be re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new class must be created, which is the concatenation of the two configuration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wo objects must somehow create and use the same configuratio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AF8DA-DAF1-46CC-9C0B-054A4FD8FF6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6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FC56-0B5B-4588-9677-5945B0128CF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iTcl was very easy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 a new class that inherits the two configuration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cl has the ability to call explicitly methods from the class hierarchy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ethod populateDialogFrame() just creates two ttk::labelframe and calls populateDialogFrame() of the two inherited classes with the proper parent frame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TclOO the task is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far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 more complex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ou cannot simply inherit both 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3CD7-0D58-4A8C-AE50-8C3BBE77A72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best alternativ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e a new class that behaves as both configuration selectors, and drives instances of the two selectors intern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methods of the two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the public variables of both objects (so as cget/configure to work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3EF0-94AF-4D87-B251-E68FEED5266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variable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clare all variables as “automatic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857160" indent="-45720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in class, with the “variable” keywor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Use “upvar” to link variables between tw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3696-410D-4B5B-9D76-3747ABBC65D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58" name="Picture 4" descr="C:\Users\George\Pictures\ZScreen Images\AnnotationAndTemplateSpecificat...libelepELEPViewerBase_-_GVIM3-20101007190655.png"/>
          <p:cNvPicPr/>
          <p:nvPr/>
        </p:nvPicPr>
        <p:blipFill>
          <a:blip r:embed="rId1"/>
          <a:stretch/>
        </p:blipFill>
        <p:spPr>
          <a:xfrm>
            <a:off x="1523880" y="2590920"/>
            <a:ext cx="609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method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ethods from both contained objects must be exposed - through “unknown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args} {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  ## Try to call the aggregated objects...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next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unknow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2CB3-157B-4175-81B0-9D42443F424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, are all problems 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class stores state information in the configuration array of the application, using a key based on the class name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saveState {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restoreState {</a:t>
            </a:r>
            <a:r>
              <a:rPr b="1" lang="en-US" sz="1800" spc="-1" strike="noStrike">
                <a:solidFill>
                  <a:srgbClr val="2e8b57"/>
                </a:solidFill>
                <a:latin typeface="Courier New"/>
                <a:ea typeface="Calibri"/>
              </a:rPr>
              <a:t>fr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annotation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templ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restoreStat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65" name="Picture 2" descr="D:\Tcl\Select_Annotation__Template_Characteristics...-20100731081105.png"/>
          <p:cNvPicPr/>
          <p:nvPr/>
        </p:nvPicPr>
        <p:blipFill>
          <a:blip r:embed="rId1"/>
          <a:stretch/>
        </p:blipFill>
        <p:spPr>
          <a:xfrm>
            <a:off x="480960" y="2138400"/>
            <a:ext cx="8182080" cy="258120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blems solved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5A05-376B-48E5-9452-493D515D27E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8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about efficiency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s there a problem using unknown to “distribute” method calls to the proper object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don’t know, I haven’t measur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assumed that there is a penalty, so I explored alternatives before implementing a similar approach for “merging” Button Annotator &amp; Template Fill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I finally did, was to create a new class which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only ButtonAnnota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various methods of TemplateFiller are copied/extend methods of the new 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us “next” works, as there is only a linear hierarchy to follow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configuration selector dialog object is single/comm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7158-0202-4B90-B0D8-FA5CE3A2A2E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object variables not support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 seems no…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but, object naming wa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interna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4.0 has been actively maintained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ignificant progress since last test (6-8 months ago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Does not crash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few “rough edges” remai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upport for iTcl object variables seems missin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tatus of iTcl next gener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Unknown. Not working either in previous tes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F847-5E9F-4374-8930-2B63598711A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AAD4-9291-479C-8B23-C568F7C8514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clOO: “gray” are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ixi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ve used “mixin”s a few times, but what are really “mixin”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at happens with colliding method names, the constructor and inheritance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herit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do you inherit from classes whose constructors take different argument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same issue can occur with plain methods and “next”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s “next” limited, and an additional invocation method is requir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ECF2-22FF-4D44-8D13-EE26D76B366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acked support for unknow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d to use the “@itcl …” variable naming for serialising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fo method is error-pron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9B31-6046-4203-B3FB-10C6C4E68B7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support for calling a specific class method from the super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ables cannot be initialised without a construc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re traces support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n constructor arguments be recorded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hould things like classmethod &amp; common be moved from the wiki to the Tcl cor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0355-DD21-40DA-9F30-0E4A3F109E5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80880" y="316224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ank you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7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8" name="Slide Number Placeholder 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1F1C-E75D-4FC9-BFD4-F03021BE93AB}" type="slidenum">
              <a:rPr b="0" i="1" lang="el-GR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9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ternatives for running the application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ait until iTcl 4.0 is read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ll it support 3.4 object variable naming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 the code from iTcl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m, 41 classes? ~20.000 lines of cod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uch a task needs to be automated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Stick to Tcl 8.5 and iTcl 3.4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 what happens with open source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CE84-5D8A-4A69-B03C-426A6C5EEF0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3874-6CF3-4930-9FDB-09B1B59B4F0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medium sized application: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pen source (LGPL),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llogon.or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ticking to Tcl 8.5 is not an opti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 ~</a:t>
            </a:r>
            <a:r>
              <a:rPr b="1" lang="en-US" sz="2200" spc="-1" strike="noStrike">
                <a:solidFill>
                  <a:srgbClr val="000099"/>
                </a:solidFill>
                <a:latin typeface="Verdana"/>
              </a:rPr>
              <a:t>480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iTcl classes need to be ported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“variable” syntax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“my” keyword when calling method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method exporting conven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ere is TclOO document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B1E5-DB31-47C0-8BA1-749674438ED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eorge</dc:creator>
  <dc:description/>
  <dc:language>en-US</dc:language>
  <cp:lastModifiedBy>George</cp:lastModifiedBy>
  <dcterms:modified xsi:type="dcterms:W3CDTF">2010-10-13T13:46:57Z</dcterms:modified>
  <cp:revision>231</cp:revision>
  <dc:subject/>
  <dc:title>Itcl and TclOO</dc:title>
</cp:coreProperties>
</file>