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0AB832-C51B-4C0C-B0D3-690606CE2A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F3AD71-DD8B-4CE8-B033-46C462A832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F55F61-0AA2-44B4-9D36-0D5A62491B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15095F-65DF-44A5-813B-DAA796AD741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1F91FB-E36D-40F2-BB85-E676141BEC5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8515FC-F47A-4212-9019-18F3A5050C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CB9D58-4C8F-48B7-AEEC-BBE30A0113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9CEE1F-5CA5-4521-B6F4-ACB038B16B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554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5C98B6-111E-41BB-834F-1FA84784BF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9F8884-E781-4285-B174-C89FDC0565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E76CAE-6E5D-4918-94AF-7A98CF89EB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2DC7FF-BB94-4606-9E57-108ABDA0F4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a2565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2700360" y="6549840"/>
            <a:ext cx="417672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8430840" y="6289200"/>
            <a:ext cx="514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800" spc="-1" strike="noStrike">
                <a:solidFill>
                  <a:srgbClr val="0a2565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BA3D7-1337-4FCE-8F42-88008FF71628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F43C1-C5CA-4651-B98E-DC83D613DC50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3284640"/>
            <a:ext cx="6400800" cy="19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800" spc="-1" strike="noStrike">
                <a:solidFill>
                  <a:srgbClr val="0a2565"/>
                </a:solidFill>
                <a:latin typeface="Arial"/>
              </a:rPr>
              <a:t>Cookf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a2565"/>
                </a:solidFill>
                <a:latin typeface="Arial"/>
              </a:rPr>
              <a:t>Wojciech Kocjan, 2010-10-1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FFF2D-53E5-4D87-8810-7632B0006A97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Overview and design – index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Keeps structure of an archiv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ndex stores a tree of all files and direc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ontains information such as mtime for all e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All information read when VFS is mounted and kept entirely 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Prevents illegal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Not possible to create a file/directory as child of a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Operation such as changing a file to a directory are also blocked by ind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C8F0D-E9C7-4576-95F9-115F48F1F2F6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Overview and design – index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Stores mapping of pages to file cont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nformation on each file has references to 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Keeps list of pages – page number, offset in page and data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Multiple files can reuse same page(s) if their contents is the same – automatically detected by VFS la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urrently written in C; work on pure Tcl implementation currently in prog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E9951-66DE-4766-98D3-4A2CE44F4CA2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Overview and design – VFS layer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Uses pages and index to provide complete VF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rovides handlers for VFS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ookfs index used for file information operations such asl isting files, getting and setting file 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Provides channels for reading mechanis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Handles seek and read operations – data retrieved directly from pages, not read entirely to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Uses </a:t>
            </a:r>
            <a:r>
              <a:rPr b="0" lang="pl-PL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chan create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pl-PL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han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for channel cre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F2AA8-9260-411F-AF37-089D6C8F7BCC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Overview and design – VFS layer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Uses memchan for writing to cookfs archiv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nitiated as empty or containing previous content of a file, depending on how file was op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When memchan is closed closed, its contents is added to archive or queued for addi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Files above specified size are added right a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Small files added in batches and grouped by file nam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VFS layer is currently implemented in Tcl; uses </a:t>
            </a:r>
            <a:r>
              <a:rPr b="0" lang="pl-PL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tclvfs</a:t>
            </a: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 package for providing Tcl virtual filesyste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95272-895A-46AC-A2A2-4748ACE0C78B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Introdu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Overview and desig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omparison with existing technolog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– sample archive cont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okit – standalone Tcl/Tk bina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urrent status and pl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7AD5B-370C-4D9B-A0A7-894202A86E5B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mparison with existing technologie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Mk4 VF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oth Mk4 VFS and cookfs use zlib comp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Mk4 VFS compresses each file individu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ooks compresses smaller files in group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ookfs offers multiple compression algorith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urrently bzip2 also avail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LZMA support planned for future relea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AD9A4-64B9-42A2-ADF2-C3672B4498C7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mparison with existing technologie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Mk4 VFS – continu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Mk4 VFS and cookfs implemented in C+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Mk4 VFS uses Mk4tcl for underlying stora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Mk4tcl written in C++ - requires additional libraries (libstdc++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ookfs uses C code for storage; pure Tcl version work in progress – C version will provide better performa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Both technologies depend on tclvf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D3377-222E-488E-BEA8-33B92F272B46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mparison with existing technologie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ZIP VF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oth ZIP VFS and cookfs use zlib comp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ZIP VFS compresses each file individu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ooks compresses smaller files in group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ookfs provides other compressiona algorith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ZIP VFS uses a known standard for arch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Multiple tools for managing ZIP archives avail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an be created from various tools such as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74436-E419-43B3-BE33-9B546AAD0359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mparison with existing technologie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Other related projects and/or alternativ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Tro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Pure C solution for single file archives; designed for Tcl modules in mi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Does not use compression, simply concatenates file contents and metadata on stored f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Does not depend on tclvf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Tar V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Uses tar archive format for storing f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Does not use compression by defaul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C1E81-9DB8-4F57-AE2E-328D9105283C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Introdu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Overview and desig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with existing technolog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omparison – sample archive cont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okit – standalone Tcl/Tk bina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urrent status and pl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9C561-0A57-409F-B4BD-78F0293DCFF8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Overview and desig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with existing technolog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– sample archive cont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okit – standalone Tcl/Tk bina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urrent status and pl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72B8D-6ECE-4833-BC6A-0D98BFD63FC6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mparison – sample archive content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Tcl related samp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Tclhttpd 3.5.1 – embedded web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latively small package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, often used in Tcl applic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uncompressed size: 460k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Tclllib 1.11.1 – set of commonly used Tcl pack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uncompressed size: 12M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ActiveTcl 8.4 – sample of Tcl binaries and pack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Installation of ActiveTcl 8.4.19.0 for Linux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uncompressed size: 71M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7" descr="D:\My Dropbox\TclConf2010\Images\sample_activetcl84_linux_1.png"/>
          <p:cNvPicPr/>
          <p:nvPr/>
        </p:nvPicPr>
        <p:blipFill>
          <a:blip r:embed="rId1"/>
          <a:stretch/>
        </p:blipFill>
        <p:spPr>
          <a:xfrm>
            <a:off x="6100920" y="4508640"/>
            <a:ext cx="2863800" cy="1620720"/>
          </a:xfrm>
          <a:prstGeom prst="rect">
            <a:avLst/>
          </a:prstGeom>
          <a:ln w="0">
            <a:noFill/>
          </a:ln>
        </p:spPr>
      </p:pic>
      <p:sp>
        <p:nvSpPr>
          <p:cNvPr id="100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03DC4-C863-4B8D-812E-A5E6243D8267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mparison – sample archive content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pic>
        <p:nvPicPr>
          <p:cNvPr id="102" name="Picture 3" descr="D:\My Dropbox\TclConf2010\Images\sample_tcllib_size.png"/>
          <p:cNvPicPr/>
          <p:nvPr/>
        </p:nvPicPr>
        <p:blipFill>
          <a:blip r:embed="rId2"/>
          <a:stretch/>
        </p:blipFill>
        <p:spPr>
          <a:xfrm>
            <a:off x="233280" y="2781360"/>
            <a:ext cx="5684760" cy="16192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" descr="D:\My Dropbox\TclConf2010\Images\sample_tclhttpd_size.png"/>
          <p:cNvPicPr/>
          <p:nvPr/>
        </p:nvPicPr>
        <p:blipFill>
          <a:blip r:embed="rId3"/>
          <a:stretch/>
        </p:blipFill>
        <p:spPr>
          <a:xfrm>
            <a:off x="233280" y="1052640"/>
            <a:ext cx="5684760" cy="16207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4" descr="D:\My Dropbox\TclConf2010\Images\sample_tcllib_linux_1.png"/>
          <p:cNvPicPr/>
          <p:nvPr/>
        </p:nvPicPr>
        <p:blipFill>
          <a:blip r:embed="rId4"/>
          <a:stretch/>
        </p:blipFill>
        <p:spPr>
          <a:xfrm>
            <a:off x="6100920" y="2781360"/>
            <a:ext cx="2863800" cy="16192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D:\My Dropbox\TclConf2010\Images\sample_tclhttpd_linux_1.png"/>
          <p:cNvPicPr/>
          <p:nvPr/>
        </p:nvPicPr>
        <p:blipFill>
          <a:blip r:embed="rId5"/>
          <a:stretch/>
        </p:blipFill>
        <p:spPr>
          <a:xfrm>
            <a:off x="6100920" y="1052640"/>
            <a:ext cx="2863800" cy="16207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6" descr="D:\My Dropbox\TclConf2010\Images\sample_activetcl84_size.png"/>
          <p:cNvPicPr/>
          <p:nvPr/>
        </p:nvPicPr>
        <p:blipFill>
          <a:blip r:embed="rId6"/>
          <a:stretch/>
        </p:blipFill>
        <p:spPr>
          <a:xfrm>
            <a:off x="233280" y="4508640"/>
            <a:ext cx="5684760" cy="16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C292E-387B-4BCF-AE39-B637BDA50592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mparison – sample archive content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Non-tcl samp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ackaging Joomla and LAMP – BitNami Joomla 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ample of packaging non-Tcl content into an archiv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oomla stack  for Linux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 with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pache, MySQL and PH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uncompressed size: 224M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ackaging Redmine – BitNami Redmine 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Redmine application with Ruby and all other artifac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uncompressed size: 535M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584C8-7942-4DF6-9212-501C3BCA3F45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mparison – sample archive content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pic>
        <p:nvPicPr>
          <p:cNvPr id="112" name="Picture 2" descr="D:\My Dropbox\TclConf2010\Images\sample_joomla_lamp_size.png"/>
          <p:cNvPicPr/>
          <p:nvPr/>
        </p:nvPicPr>
        <p:blipFill>
          <a:blip r:embed="rId1"/>
          <a:stretch/>
        </p:blipFill>
        <p:spPr>
          <a:xfrm>
            <a:off x="233280" y="1879560"/>
            <a:ext cx="5684760" cy="16192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3" descr="D:\My Dropbox\TclConf2010\Images\sample_joomla_lamp_linux_1.png"/>
          <p:cNvPicPr/>
          <p:nvPr/>
        </p:nvPicPr>
        <p:blipFill>
          <a:blip r:embed="rId2"/>
          <a:stretch/>
        </p:blipFill>
        <p:spPr>
          <a:xfrm>
            <a:off x="6102360" y="1879560"/>
            <a:ext cx="2862360" cy="16192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4" descr="D:\My Dropbox\TclConf2010\Images\sample_redmine_rubystack_size.png"/>
          <p:cNvPicPr/>
          <p:nvPr/>
        </p:nvPicPr>
        <p:blipFill>
          <a:blip r:embed="rId3"/>
          <a:stretch/>
        </p:blipFill>
        <p:spPr>
          <a:xfrm>
            <a:off x="233280" y="3610080"/>
            <a:ext cx="5684760" cy="16192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5" descr="D:\My Dropbox\TclConf2010\Images\sample_redmine_rubystack_linux_1.png"/>
          <p:cNvPicPr/>
          <p:nvPr/>
        </p:nvPicPr>
        <p:blipFill>
          <a:blip r:embed="rId4"/>
          <a:stretch/>
        </p:blipFill>
        <p:spPr>
          <a:xfrm>
            <a:off x="6102360" y="3610080"/>
            <a:ext cx="2862360" cy="16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E3FD6-A3D8-4A78-874D-BEC6727D2DCD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Introdu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Overview and desig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with existing technolog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– sample archive cont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ookit – standalone Tcl/Tk bina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urrent status and pl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01990-BD0F-4C14-BE46-5373F76973E8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okit – standalone Tcl/Tk binary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ookit is a tclkit-like binary that has Tcl, core libraries and VFS included in a singl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ncludes Tcl (optionally Tk) and cookfs linked sta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an be used in same ways as tclkit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For running other scripts – Tcl scripts, cookfs and zip arch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For building standalone applications – by adding files to cookfs archive, including </a:t>
            </a:r>
            <a:r>
              <a:rPr b="0" lang="pl-P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in.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As interactive </a:t>
            </a:r>
            <a:r>
              <a:rPr b="0" lang="pl-P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sh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/ </a:t>
            </a:r>
            <a:r>
              <a:rPr b="0" lang="pl-P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wish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shell in a singl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43F4F-0480-4C3B-A13A-187A39BA2FC5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okit – standalone Tcl/Tk binary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ookit and Tcl initializ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Uses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Main()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okit_AppInit()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as custom application 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Reads initialization Tcl code from cookf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Initializes tclvfs and Tcl libraries after mounting cookf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lang="pl-P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in.tcl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file is present in cookfs archive, cookit sources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Works as standalone applic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Other packages can be placed in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lib/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 directory; they can be loaded using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age require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 comman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F2FB6-5965-466D-B843-7893CEA16850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okit – standalone Tcl/Tk binary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ookit build syste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Engine for building packages and linking cook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Has logic to handle dependencies, comparing vers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Multiple commands to build entire cookit or just par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Has definitions for cookit parts – i.e. tcl, tk, vfs, cook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Each part defines how it is configured and buil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Handles listing files to add to cookit VF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reate additional scripts for cookit initializ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Handle adding static packages to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okit_AppInit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2BE92-5AF4-4A73-A437-B756702F3CE2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okit – standalone Tcl/Tk binary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Building cook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Download cookit build system from SourceForge:</a:t>
            </a:r>
            <a:br>
              <a:rPr sz="2400"/>
            </a:br>
            <a:r>
              <a:rPr b="0" lang="pl-PL" sz="1800" spc="-1" strike="noStrike" u="sng">
                <a:solidFill>
                  <a:srgbClr val="000000"/>
                </a:solidFill>
                <a:uFillTx/>
                <a:latin typeface="Arial"/>
              </a:rPr>
              <a:t>http://sourceforge.net/projects/cookit/files/cookit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Retrieve Tcl, Tk, tclvfs and cookfs sources:</a:t>
            </a:r>
            <a:r>
              <a:rPr b="0" lang="pl-P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br>
              <a:rPr sz="2000"/>
            </a:b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lsh build.tcl retrievesource tcl tk vfs cook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uilding default cookit (without Tk)</a:t>
            </a:r>
            <a:br>
              <a:rPr sz="2000"/>
            </a:b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lsh build.tcl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build-cook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uild with Tk embedded statically (i.e. for MS Windows)</a:t>
            </a:r>
            <a:r>
              <a:rPr b="0" lang="pl-PL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br>
              <a:rPr sz="2600"/>
            </a:b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lsh build.tcl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–tk latest build-cook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A4E2D-84F7-4062-A738-34ED3FA8ADF3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okit – standalone Tcl/Tk binary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Using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cook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ooki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okit.ex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okit-ui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550"/>
              </a:spcBef>
              <a:buClr>
                <a:srgbClr val="0a2565"/>
              </a:buClr>
              <a:buSzPct val="95000"/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okit.ex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runs in command promp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550"/>
              </a:spcBef>
              <a:buClr>
                <a:srgbClr val="0a2565"/>
              </a:buClr>
              <a:buSzPct val="95000"/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okit-ui.ex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includes Tk and only provides UI mod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latforms currently buil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 x8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ux x8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 OS X x8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platforms can be built from sources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7E590-2090-4A2C-A4DF-CBEB7D9FAA41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Tcl one of first languages to ship applications as single execut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rowrap – first Tcl solution for putting multiple files in single executable; uses ZIP based arch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freeWrap – one of first freely available solutions; uses Z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TclKit – one of most popular solutions for bundling applications; uses Mk4-based VFS and uses Tcl 8.4 VFS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895EE-C50A-448B-A926-7F15EF773910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Introdu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Overview and desig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with existing technolog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– sample archive cont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okit – standalone Tcl/Tk bina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urrent status and pl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B2009-83A2-4D9F-BDFF-0F8CDD28510B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urrent status and plans – cookf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chive format stabilized – will not 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mplementation partially C and Tc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ends on tclvfs to provide VFS la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uture pl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-only implementation – remove dependen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pure Tcl version for easier ado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 grouping and duplication detection – currently not detected well for small f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B6A1B-D025-4403-BE79-D40F4B38BF81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urrent status and plans – cookit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urrent statu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ularized build system, support for multiple platforms (tested on 4 platforms, regularly built on 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naries work fine – no major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 for threaded Tcl not yet comple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uture pl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der platforms builds to be performed period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tform for building and managing pack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67ED6-0DFC-474C-A0DB-0B6F9BD0181A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urrent status and plan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Want to help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k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eate document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tter test suite and/or add more test covera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elp with implementing new featu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k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latform support – build and submit binar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ubmit bugs/problems on less common platfor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E567A-3B45-4958-A4E8-1D8CE81EF0F9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2AF6B-D45B-4438-9B90-FD60370DD170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itRock, especially Daniel Lopez and Juan José Medina Godoy – for providing feedback to cookfs and paper for this con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iotr Beltowski – for reviews and comments on cookfs, cookit and documents for this con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a2565"/>
                </a:solidFill>
                <a:latin typeface="Arial"/>
              </a:rPr>
              <a:t>Questions?</a:t>
            </a:r>
            <a:endParaRPr b="0" lang="en-US" sz="40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1ACC2-A68F-4EFE-B9D3-808E62C02252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Thank you!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pl-PL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3787C-2895-443A-992E-34B3EB762791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60DCA-7ECC-46A5-9E59-74A35D25E6F0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Why cookfs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Optimized for Tcl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Groups small f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Optimized for Tcl files such as pkgIndex.tc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Multiple compres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urrently zlib, bz2 – plans for including LZMA as op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an use multiple compressions in one archiv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Designed for shipping all types of f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Handles large number of small files and very large f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Provides efficient memory management – VFS operations consume very little memo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B1AFD-9109-4283-A765-D8F30D4F9397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Using cookf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Obtaining and building cook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Available from SourceForge - source code on SVN; cookfs source and cookit binaries as file downloa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Using TEA; uses standard configure &amp; make approac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Using cookfs from 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Similar to any VFS –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vfs::cookfs::Mount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vfs::unmou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ommands (i.e.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ile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) work same as for any VF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Direct write command for faster addition of f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736D4-45A0-4D65-B830-C5A5DDF73F58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Introdu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Overview and desig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with existing technolog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– sample archive cont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okit – standalone Tcl/Tk bina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urrent status and pl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44B01-FA0A-47DB-A453-D2B9965F5783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Overview and design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ookfs major elem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ookfs 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Storage of parts of files, entire files or group of f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Referenced by integer indexes, starting from 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ndex and directory hierarc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Keeps information on files and directories in VF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Maps hierarchy to cookfs pag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ookfs VFS la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Uses pages and index elements to provide VF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Offers access to archive from Tcl and Tcl C AP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07E3E-F23A-4115-8FCA-D12035D59BAC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Overview and design – page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Generic solution for storing content of fi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Each page can store arbitrary amount of by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ages are referenced by integer indexes, starting at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Pages can only be added and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ages are immutable – update or delete not allow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age reading uses LRU cache; this speeds up retrieval of small f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age cache is configurable – faster reads at a cost of larger memory 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F325D-AC05-4F34-9102-B36CAB9A7E6D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Overview and design – page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Metadata keeps track of page siz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Keeps information on all pages’ siz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rovides space for storing cookfs index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Offer write-aside fea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Storing changes to cookfs archive in a separat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Useful for read-only media (CD, DVD) or for storing updates to application in a separat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urrently written in C; work on pure Tcl implementation currently in prog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3T07:34:50Z</dcterms:created>
  <dc:creator>Bitrock SL</dc:creator>
  <dc:description/>
  <dc:language>en-US</dc:language>
  <cp:lastModifiedBy> </cp:lastModifiedBy>
  <dcterms:modified xsi:type="dcterms:W3CDTF">2010-10-13T17:45:02Z</dcterms:modified>
  <cp:revision>56</cp:revision>
  <dc:subject/>
  <dc:title>Diapositiva 1</dc:title>
</cp:coreProperties>
</file>