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F771-74F2-4967-8490-41A81AF1C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EE75-4E9E-4437-B958-1833760CE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3AFA-4C96-47B9-840B-9A0214F48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089D-9A1B-4E91-A08A-3957343EB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48646-10C8-4F14-960E-D17847B11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BC0E5-0971-4A35-80A9-5B1DE562C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79B9D-2D73-4535-85C7-BF1D7782F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9BF3C-08A8-4BA7-BDED-2213B2FDA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39A50-1906-4921-802C-71648BFBC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BDD0B-5DE1-48F4-AEBE-5E4447609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1CF13-F38D-4688-B327-478F75BF5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629D-1B77-4669-BA90-B2D10DF4A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D5BE8-8C28-4548-9F11-A8A63083F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6CF6F-3E4B-40D2-AC42-5DB4DF8F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417AD-FE23-424E-871A-55E6012FF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87B6B-DE9E-4E63-A666-DABCDCA18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5E528-6B99-4CAC-A534-17FEE972E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08C5-676D-459A-91D7-D91AEFFA5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FD27-DB9B-4F75-A3C4-B1C1E7A96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DAEB-1F32-4D8B-8C79-E487C7F8D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8C18-C65F-4808-92E5-788C7A751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F5A6-1A20-4BA1-B23F-B33E3599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19D5-F8BC-4991-8A61-727F234D5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6765-9153-4946-A701-AE8FEC289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320" y="64036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40044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904D3A-C069-4A88-BA87-08FC0C2E63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180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56800"/>
            <a:ext cx="7769160" cy="22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320" y="63910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8000" y="639108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B8AC1D-CA74-4EC7-A25B-98CF0B6EE1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22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Networked Digital Whiteboar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with 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Handwritten-Symbol Interpreter an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Dynamic-Display-Objec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1c3938"/>
                </a:solidFill>
                <a:latin typeface="Arial"/>
              </a:rPr>
              <a:t>Atsuhide Kobas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Henry M. Gunn High Sch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Palo Alto, Califor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September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2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and arrow added by a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3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049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vas window with scrollbars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4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81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added by the participant who created the canvas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linked to a variable that affects the output (quadratic curve) on the added can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5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3526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widget window with a scrollbar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aster Controll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2763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by the pres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side controller has no page-change cap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114800" y="2286000"/>
            <a:ext cx="4314960" cy="27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raw/Write Tool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946240" y="2232000"/>
            <a:ext cx="3324240" cy="12859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3998880"/>
            <a:ext cx="769464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for all drawing and writing including the handwriting of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Hand-Written 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1148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oked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ze and color set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tion set by mouse click on the target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257800" y="2057400"/>
            <a:ext cx="1714680" cy="22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9528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ee types of wi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s selector helps quick com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can be linked to a variable that changes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715000" y="1905120"/>
            <a:ext cx="2741760" cy="4037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943600" y="1905120"/>
            <a:ext cx="224172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anvas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Spinbox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hat is it?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696080" cy="31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/Tk-based whiteboard presentation tool with unique function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ence can participate in the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s quick construction of complex objects for displaying during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etails on the Three Functions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464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written symbol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 and Widget Cre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Networking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TCL’s network-related command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25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devel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custom header to indi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s of data  (multiple combinations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ngth of each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to handle each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wner ID and sequence i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al extra information fi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y on transmitte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of wish by both server and clients reduces the amount of transmitted code  (suitable for networking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the widgets created by the Widget Creator, only the specifications entered in the Widget Creator are transmit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Hand-Written-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algorithm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erfect or even near human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lots of CPU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C module needed for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under development and modules for a small number of symbols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nt for the converte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s from Tex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symbols not available from Tex, custom raster symbol creation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GUI and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GUI Tk-ba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its of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and quick to create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amount of code fits well for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to inspect the transmitted code in development stage, since it is written in human readable scrip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 independent operation for each participant guaranteed by multiple interpr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urrent Problems</a:t>
            </a:r>
            <a:r>
              <a:rPr b="0" lang="en-US" sz="19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1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 slide crea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akes more time to make presentation pages than the conventional presentation too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ic input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ore variation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get cre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der variety of widgets need to be handl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interpreter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se of threaded system desirable for smooth oper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-written symbol interpr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verage of more symbols and better recognition algorithm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function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age advance/backup capability on the client side without affecting  the display of the serv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onclus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state still version 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gh edges exist. Refinement nee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ly TCL/TK knowledge required to compose presentation slides.  (Less so for clients to add  objects.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convenience modules needed to compete directly with PowerPoint and Imp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potential to become a useful tool for users in various fields, not just educ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other tool can enable networked two-way interactive presentation with dynamically manipulable obj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otiv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cational presentation in classes and 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tific subjects: math, physics, chemistry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 with the conventional presentation tool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owerPoint, Impress, etc. 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way information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(off-site) audience cannot particip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tools to quickly cre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symbol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display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 Our new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1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way information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audience to add objects on the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 of objects to be dynamically cre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s, ar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s, ov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dgets, both static and dynamically manipu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2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through network with participants at b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tion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tworked Two-Way Present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79440" y="2322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2666880"/>
            <a:ext cx="94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esenter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7712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2971800"/>
            <a:ext cx="42674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53080" y="266688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228600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05320" y="312408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76920" y="3352680"/>
            <a:ext cx="9144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90920" y="2514600"/>
            <a:ext cx="91440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502920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533412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4419720"/>
            <a:ext cx="1143000" cy="160020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4495680"/>
            <a:ext cx="68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5800" y="4952880"/>
            <a:ext cx="119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57600" y="487692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86200" y="533412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SCII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inary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76520" y="3505320"/>
            <a:ext cx="1440" cy="1523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05320" y="4114800"/>
            <a:ext cx="13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tted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3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efficiently and quickly construct complex symbol structures  (for math, logic, scientific symbols) by hand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4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quickly create widgets including dynamically manipulable 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1 (Original)</a:t>
            </a: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-based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full-screen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cp:revision>0</cp:revision>
  <dc:subject/>
  <dc:title>Networked Digital Whiteboard  with  Handwritten-Symbol Interpreter and  Dynamic-Display-Object Creator</dc:title>
</cp:coreProperties>
</file>