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B00FB-DC26-4C7F-968B-6D0C9896C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60B80-C7F7-4A12-9145-4892C637D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98A5C-F1B2-4188-8001-78229028F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2705F-85E0-4081-88FD-93AA25940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57E20-BDEB-4067-8136-EF54423CD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26413-59B2-47DE-8DF4-94F333C7B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459B9-CCD9-4D03-A1C1-A3F6F6DBE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3E017-A014-4280-AF81-ED089303B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D991C-FD7F-4FAB-A72E-8D14C4602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848B1-ED2F-45BB-BF88-FD5A3B826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CDD67-F1FB-419D-BA3D-DE5FEB4AE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5A859-D4B4-449E-A63A-A441694ED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D2833-6B6C-4306-99FC-6EF3D0C524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kImg, Past – Present - Fu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n Nijtmans/Paul Obermei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uroTcl 2008, june 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g 1.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forma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buil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ve support Tcl &lt; 8.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test su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??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ic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ul Obermeij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it started:                      ’94-’97     http://hwr.nici.kun.nl/~miami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NG, JPEG, TIF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_Obj interface/stub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par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forma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miami" descr=""/>
          <p:cNvPicPr/>
          <p:nvPr/>
        </p:nvPicPr>
        <p:blipFill>
          <a:blip r:embed="rId1"/>
          <a:stretch/>
        </p:blipFill>
        <p:spPr>
          <a:xfrm>
            <a:off x="3657600" y="1523880"/>
            <a:ext cx="1954080" cy="99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rst: P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itial code borrowed (stolen) from:             Joel Cris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ly reading/writing from fi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ed support for PNG user proper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nk with zli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ond: JPE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ed initial implementation, using Tomas Lane’s JPEG library (version 6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ter replaced with Tomas Lane’s vers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ort for both libjpeg 6a and 6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rd: TIF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libtiff library (Sam Leffner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nk with zlib and libjpe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533520" y="2209680"/>
            <a:ext cx="7619760" cy="1371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brary dependency (Img 1.0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90720" y="2514600"/>
            <a:ext cx="2133360" cy="7621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81280" y="2514600"/>
            <a:ext cx="1905120" cy="8380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146280" y="2691000"/>
            <a:ext cx="1347120" cy="48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828800" y="4572000"/>
            <a:ext cx="1752480" cy="7621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b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5410080"/>
            <a:ext cx="2133720" cy="7621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3657600"/>
            <a:ext cx="2133720" cy="7621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b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486400" y="4419720"/>
            <a:ext cx="1905120" cy="7617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b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6553080" y="3276720"/>
            <a:ext cx="15264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5257800" y="502920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600200" y="3276720"/>
            <a:ext cx="45720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4419360" y="3352680"/>
            <a:ext cx="759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3276720" y="4267080"/>
            <a:ext cx="30456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419720" y="44197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391520" y="15238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r ’9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g 1.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imated GI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M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tscript (idea stolen from XV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_Obj (8.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generic 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562720" y="14479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g ’9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g 1.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ndow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df (using ghostscrip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ll Tcl_Obj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ved support Tcl &lt; 8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te arra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st release: 1.2.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715000" y="12952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’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572000" y="50292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g.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kImg 1.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eState: re-organisation of bui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ved support Tcl &lt; 8.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ve to sourcefor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formats: xbm, xpm, ico, pcx, sgi, sun, tg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Img 1.3.1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67280" y="137160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g 20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CIS</cp:lastModifiedBy>
  <dcterms:modified xsi:type="dcterms:W3CDTF">2008-06-05T14:41:55Z</dcterms:modified>
  <cp:revision>6</cp:revision>
  <dc:subject/>
  <dc:title>PowerPoint Presentation</dc:title>
</cp:coreProperties>
</file>